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8EF8-42A0-46F3-B696-264F88B1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5068-8D2C-4037-8B6D-8E3002F9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5791-D4E1-4FFF-9155-9C2D6EF0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8FE8-242B-4F0A-94FE-1E6F883A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7630-F60E-4522-9C9D-21CCD9E2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D489-2277-4CC6-9505-8AC968AA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B6DD-D675-4AF8-A283-2ACF7EA1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AD52-2991-4B31-BABD-0118CA6D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6642-4C46-430B-9C7E-ACABAC30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00C2-7E47-4DA2-AF21-BD5EDD7E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CA31-ADFC-4456-8BEE-6DC3D699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D0D7-3F70-4CB4-BB1E-9DD7B899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EA65-81EB-4167-9D41-F1833B3CC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PaX, W^X y Propoli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yecto E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milio Mi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EXEC: PAGEEXEC (IA-3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6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mplementado en la seccion del kernel que resuelve fallos de pagi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as paginas no executables (datos, heap, stack) se almacenan con el bit de supervisor activ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uando un proceso accede a ellas, se produce un fallo de pag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X checkea si la direccion de memoria a ejecutar se encuentra dentro de la pagina accedia (acceso de ejecuc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 fue un acceso de ejecucion, aborta el programa y lo rep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n caso contrario, cambia el bit de modo supervisor a modo usuario, accede a la pagina para provocar otro fallo de pagina y su correcto almacenamiento en la TLB, y vuelve a cambiar el bit de modo usuario a modo supervis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oco e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lementado a nivel de seg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vide el espacio de memoria virtual de proceso en dos: datos y codi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ce uso de los registros CS y DS no utilizados en Linux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o afecta al 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EXEC: SEGMEX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3581280"/>
            <a:ext cx="281916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3581280"/>
            <a:ext cx="175248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3581280"/>
            <a:ext cx="259092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d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4457520" y="-38160"/>
            <a:ext cx="152280" cy="7086600"/>
          </a:xfrm>
          <a:custGeom>
            <a:avLst/>
            <a:gdLst>
              <a:gd name="textAreaLeft" fmla="*/ 97200 w 152280"/>
              <a:gd name="textAreaRight" fmla="*/ 152640 w 152280"/>
              <a:gd name="textAreaTop" fmla="*/ 184680 h 7086600"/>
              <a:gd name="textAreaBottom" fmla="*/ 6901920 h 7086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31240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4 GB memoria vir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2285640" y="3200400"/>
            <a:ext cx="228600" cy="2819160"/>
          </a:xfrm>
          <a:custGeom>
            <a:avLst/>
            <a:gdLst>
              <a:gd name="textAreaLeft" fmla="*/ 0 w 228600"/>
              <a:gd name="textAreaRight" fmla="*/ 82440 w 22860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5028840" y="3352680"/>
            <a:ext cx="228600" cy="2514600"/>
          </a:xfrm>
          <a:custGeom>
            <a:avLst/>
            <a:gdLst>
              <a:gd name="textAreaLeft" fmla="*/ 0 w 228600"/>
              <a:gd name="textAreaRight" fmla="*/ 82440 w 2286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7162560" y="3733560"/>
            <a:ext cx="228600" cy="1752480"/>
          </a:xfrm>
          <a:custGeom>
            <a:avLst/>
            <a:gdLst>
              <a:gd name="textAreaLeft" fmla="*/ 0 w 228600"/>
              <a:gd name="textAreaRight" fmla="*/ 8244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46926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.5 G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46926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.5 G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692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 G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2210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0x000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33920" y="42210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0x600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42210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0xc00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066680" y="403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886200" y="403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477120" y="403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EXEC: SEGMEX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$ cat /proc/self/ma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08048000-0804a000 R-Xp 00000000 00:0b 1109 /tmp/ca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urier New"/>
              </a:rPr>
              <a:t>0804a000-0804b000 RW-p 00002000 00:0b 1109 /tmp/ca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804b000-0804d000 RW-p 00000000 00:00 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000000-20002000 ++-p 00000000 00:00 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urier New"/>
              </a:rPr>
              <a:t>20002000-20003000 RW-p 00002000 00:0b 1109 /tmp/ca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urier New"/>
              </a:rPr>
              <a:t>20003000-20018000 R-Xp 00000000 03:07 110818 /lib/ld-2.2.5.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018000-20019000 RW-p 00014000 03:07 110818 /lib/ld-2.2.5.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Courier New"/>
              </a:rPr>
              <a:t>20021000-20146000 R-Xp 00000000 03:07 106687 /lib/libc-2.2.5.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146000-2014c000 RW-p 00125000 03:07 106687 /lib/libc-2.2.5.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14c000-20150000 RW-p 00000000 00:0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5fffe000-60000000 RW-p 00000000 00:00 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80000000-80002000 R-Xp 00000000 00:0b 1109 /tmp/ca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urier New"/>
              </a:rPr>
              <a:t>80003000-80018000 R-Xp 00000000 03:07 110818 /lib/ld-2.2.5.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Courier New"/>
              </a:rPr>
              <a:t>80021000-80146000 R-Xp 00000000 03:07 106687 /lib/libc-2.2.5.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2362320"/>
            <a:ext cx="380880" cy="2819160"/>
          </a:xfrm>
          <a:custGeom>
            <a:avLst/>
            <a:gdLst/>
            <a:ahLst/>
            <a:rect l="l" t="t" r="r" b="b"/>
            <a:pathLst>
              <a:path w="144" h="1632">
                <a:moveTo>
                  <a:pt x="144" y="0"/>
                </a:moveTo>
                <a:lnTo>
                  <a:pt x="0" y="0"/>
                </a:lnTo>
                <a:lnTo>
                  <a:pt x="0" y="1632"/>
                </a:lnTo>
                <a:lnTo>
                  <a:pt x="144" y="163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2590920"/>
            <a:ext cx="228600" cy="838080"/>
          </a:xfrm>
          <a:custGeom>
            <a:avLst/>
            <a:gdLst/>
            <a:ahLst/>
            <a:rect l="l" t="t" r="r" b="b"/>
            <a:pathLst>
              <a:path w="144" h="1632">
                <a:moveTo>
                  <a:pt x="144" y="0"/>
                </a:moveTo>
                <a:lnTo>
                  <a:pt x="0" y="0"/>
                </a:lnTo>
                <a:lnTo>
                  <a:pt x="0" y="1632"/>
                </a:lnTo>
                <a:lnTo>
                  <a:pt x="144" y="163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657600"/>
            <a:ext cx="533520" cy="1828800"/>
          </a:xfrm>
          <a:custGeom>
            <a:avLst/>
            <a:gdLst/>
            <a:ahLst/>
            <a:rect l="l" t="t" r="r" b="b"/>
            <a:pathLst>
              <a:path w="144" h="1632">
                <a:moveTo>
                  <a:pt x="144" y="0"/>
                </a:moveTo>
                <a:lnTo>
                  <a:pt x="0" y="0"/>
                </a:lnTo>
                <a:lnTo>
                  <a:pt x="0" y="1632"/>
                </a:lnTo>
                <a:lnTo>
                  <a:pt x="144" y="163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4191120"/>
            <a:ext cx="685800" cy="1523880"/>
          </a:xfrm>
          <a:custGeom>
            <a:avLst/>
            <a:gdLst/>
            <a:ahLst/>
            <a:rect l="l" t="t" r="r" b="b"/>
            <a:pathLst>
              <a:path w="144" h="1632">
                <a:moveTo>
                  <a:pt x="144" y="0"/>
                </a:moveTo>
                <a:lnTo>
                  <a:pt x="0" y="0"/>
                </a:lnTo>
                <a:lnTo>
                  <a:pt x="0" y="1632"/>
                </a:lnTo>
                <a:lnTo>
                  <a:pt x="144" y="163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5029200"/>
            <a:ext cx="693396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3048120"/>
            <a:ext cx="693396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SL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peo de librerias en posiciones aleato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ita asi la tecnica ‘return-into-libc’ cuando el ataque es remo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uando el ataque es local,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proc/PID/map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revela la direccion de mapeo de las libre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demos saltar al enlazador dinamico. Pasando los argumentos necesarios, podemos encontrar la direccion de la funcion que quer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960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38480" y="32767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cpy_p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3276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g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29400" y="3276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g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276720" y="380952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066680" y="327672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066680" y="38098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90920" y="3276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cpy_p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l-resolver(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1600200"/>
            <a:ext cx="800100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a que el enlazador dinamico pueda resolver el nuevo symbolo, necesitam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285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yadir la funcion que queremos ejecutar en la tabla de simbolos del proceso (tambien en la tabla de caden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285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ificar la tabla de relocacion (que apunta a la entrada de .plt que contiene la func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285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ificar la tabla de 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EX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ndomiza el binario – resuelve la tecnica return-into-dl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ace la randomizacion del programa a nivel de nucleo (no afecta al programa de usuario), pero es ineficiente y esta pensado como una medida a corto plaz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Una solucion mas efectiva consiste en compilar los ejecutable con la opcion PIC (Position Independent Code), obteniendo un binario tipo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ET_DY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PROT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8480" indent="-258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blema: hasta ahora, seria posible hacer los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0960" indent="-17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ear un nuevo mapeo de datos en una posicion determin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40960" indent="-17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piar el shellcode con strcpy (llamada desde .p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40960" indent="-17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mbiar el acceso del mapeo a ejecu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40960" indent="-17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jecutar el shell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8480" indent="-258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lucion: MPROTECT protege mapeos de memoria - mmap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8480" indent="-258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uando se define por primera vez un mapeo con un control de acceso determinado, no se permite modificarlo posterior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8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omizacion de la pila del Kern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ita asi los desbordamientos de buffer basados en pila en el Ker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blema: es poco es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^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cion de paginas no ejecutables (Write XOR eXecutable) en OpenBSD 3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da a nivel del cargador dinamico y ejecutable (muy poca modificacion del nuclue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binarios no tienen compatilidad con versiones del SO &lt; 3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es tan efectivo como P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l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ordena las variables locales colocandolas siempre por encima de los buf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ordena los punteros a funcion pasados como parametros a una funcion, poniendolos por encima de los buf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 ‘valores canario’ entre el las variables locales y BP’ (Stackgu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ion de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EXE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EX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X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LR                       P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ROT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EX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NR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^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l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52680" y="2743200"/>
            <a:ext cx="609840" cy="2743200"/>
          </a:xfrm>
          <a:custGeom>
            <a:avLst/>
            <a:gdLst>
              <a:gd name="textAreaLeft" fmla="*/ 0 w 609840"/>
              <a:gd name="textAreaRight" fmla="*/ 220320 w 60984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asta el momento, PAX es la mejor defensa para evitar buffer overf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X no elimina al 100% los riesgos de buffer overflow, pero es una barrera 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pol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 implementacion de paginas no executables con Propolice, es una solucion bastante efectiva (OpenBSD, Adamanti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tiva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 bof basados en pila, el shellcode se suele insertar en el mismo buffer desbord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wall protege contra este tipo de exploits implementando una pila no ejecu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l shellcode se puede insertar en otros segmentos del proceso (heap, datos) pudiendo ser ejecutado desde a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mbien es posible ejecutar codigo de la propia aplicacion (libreri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cion: anyadir permiso de ejecucion a nivel de pagina (no resuelve el punto anteri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 poco de EL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49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8280" indent="-278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F (Executable and Linking Format): define el formato del binario ejecutable y su imagen en mem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9960" indent="-4525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_EXEC: ejecutable (program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9960" indent="-4525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_REL: relocalizable (librer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9960" indent="-4525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_DYN: objeto compartido (programa relocaliza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cion de un proces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9960" indent="-452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F define secciones dentro del bina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9960" indent="-452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 kernel crea una imagen en memoria dependiendo de las secciones del bina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9960" indent="-452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 kernel carga el enlazador dinamico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d.s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y le pasa el control. ld.so se encarga entre otras cosas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775880" indent="-3769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gar y relocalizar todas las librerias que el binario necesi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775880" indent="-3769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lazarlas con el binario resolviendo simbolos (2 tip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775880" indent="-3769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olver el control al programa –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ciones de un fich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925040" cy="432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8280" indent="-278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dynsy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abla de simbolos dinam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dyns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abla que asocia indices de la tabla de simbolos con el nombre del simbolo (p.e. 3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strcpy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rel_dy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abla de relocalizacion de simbolos (librerias y objectos comparti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in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punto de inicio del programa –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p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abla PLT (Procedule Linking T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t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odigo ejecutable del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ro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datos inicializados de solo le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datos inicializados de lectura/escri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g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abla GOT (Global Offset T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b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datos no inicializ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eo de un ejecutable en 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labii:$ cat /proc/self/ma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[1] 08048000-0804c000 r-xp 00000000 08:01 29433      /bin/c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urier New"/>
              </a:rPr>
              <a:t>[2] 0804c000-0804d000 rw-p 00003000 08:01 29433      /bin/c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Courier New"/>
              </a:rPr>
              <a:t>[3] 0804d000-0804f000 rwxp 00000000 00:0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[1] 40000000-40014000 r-xp 00000000 08:01 20064      /lib/ld-2.3.2.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urier New"/>
              </a:rPr>
              <a:t>[2] 40014000-40015000 rw-p 00013000 08:01 20064      /lib/ld-2.3.2.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Courier New"/>
              </a:rPr>
              <a:t>[3] 40015000-40016000 rw-p 00000000 00:0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[1] 40024000-40150000 r-xp 00000000 08:01 20070      /lib/libc.so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urier New"/>
              </a:rPr>
              <a:t>[2] 40150000-40155000 rw-p 0012b000 08:01 20070      /lib/libc.so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Courier New"/>
              </a:rPr>
              <a:t>[3] 40155000-40157000 rw-p 00000000 00:0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4] 40157000-40357000 r--p 00000000 08:01 20623      /usr/lib/locale/loc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5] bfffe000-c0000000 rwxp fffff000 00:0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1] : .init, .text, .rodata, .p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2] : .data, .bss, .got, .dynsym, .dynstr, .rel_dy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3] : he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4] : Libreria de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5] : Pi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nlazador dina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2050920"/>
            <a:ext cx="175248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159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p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86600" y="159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g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243216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88936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334656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380376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2050920"/>
            <a:ext cx="175284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243216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88936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53080" y="334656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53080" y="380376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117960"/>
            <a:ext cx="3048120" cy="99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mp *some_func_dyn_reloc_en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sh $reloc_offs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mp beginning_of_.plt_s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311796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733920" y="3803760"/>
            <a:ext cx="6858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21272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mp dl-resolver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34671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intf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29653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cpy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25081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scanf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4336920"/>
            <a:ext cx="868680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n el ejecutable, las llamadas a una funcion externa se direccionan a la entrada de la funcion en .p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a primera instruccion de la entrada .plt salta a donde apunta la entrada de la funcion en .g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uando la funcion es instanciada por primera vez, la entrada en .got contiene la segunda instruccion de la entrada en .p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 apila en memoria el indice de la funcion a ejecutar y se salta a la posicion 0 en .p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 llama al enlazador dinamico y este resuelve la posicion de la funcion, almancenandola en .got y saltando a e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0" y="2933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amp;(strcpy()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339084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amp;(push $reloc_o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0" y="24764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amp;(fscanf()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28800" y="16700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57600" y="16700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272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5844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220356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all printf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2965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174636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1670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2432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289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57200" y="1981080"/>
            <a:ext cx="1371600" cy="1441440"/>
            <a:chOff x="457200" y="1981080"/>
            <a:chExt cx="1371600" cy="1441440"/>
          </a:xfrm>
        </p:grpSpPr>
        <p:sp>
          <p:nvSpPr>
            <p:cNvPr id="89" name=""/>
            <p:cNvSpPr/>
            <p:nvPr/>
          </p:nvSpPr>
          <p:spPr>
            <a:xfrm>
              <a:off x="457200" y="2355840"/>
              <a:ext cx="1371600" cy="1066680"/>
            </a:xfrm>
            <a:custGeom>
              <a:avLst/>
              <a:gdLst/>
              <a:ahLst/>
              <a:rect l="l" t="t" r="r" b="b"/>
              <a:pathLst>
                <a:path w="864" h="672">
                  <a:moveTo>
                    <a:pt x="864" y="0"/>
                  </a:moveTo>
                  <a:lnTo>
                    <a:pt x="0" y="0"/>
                  </a:lnTo>
                  <a:lnTo>
                    <a:pt x="0" y="672"/>
                  </a:lnTo>
                  <a:lnTo>
                    <a:pt x="144" y="67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14400" y="19810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657600" y="3062160"/>
            <a:ext cx="2895480" cy="368280"/>
            <a:chOff x="3657600" y="3062160"/>
            <a:chExt cx="2895480" cy="368280"/>
          </a:xfrm>
        </p:grpSpPr>
        <p:sp>
          <p:nvSpPr>
            <p:cNvPr id="92" name=""/>
            <p:cNvSpPr/>
            <p:nvPr/>
          </p:nvSpPr>
          <p:spPr>
            <a:xfrm>
              <a:off x="3657600" y="3422520"/>
              <a:ext cx="289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72200" y="3062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581280" y="2279520"/>
            <a:ext cx="838440" cy="1524240"/>
            <a:chOff x="3581280" y="2279520"/>
            <a:chExt cx="838440" cy="1524240"/>
          </a:xfrm>
        </p:grpSpPr>
        <p:sp>
          <p:nvSpPr>
            <p:cNvPr id="95" name=""/>
            <p:cNvSpPr/>
            <p:nvPr/>
          </p:nvSpPr>
          <p:spPr>
            <a:xfrm>
              <a:off x="3581280" y="2279520"/>
              <a:ext cx="838440" cy="1524240"/>
            </a:xfrm>
            <a:custGeom>
              <a:avLst/>
              <a:gdLst/>
              <a:ahLst/>
              <a:rect l="l" t="t" r="r" b="b"/>
              <a:pathLst>
                <a:path w="528" h="960">
                  <a:moveTo>
                    <a:pt x="0" y="960"/>
                  </a:moveTo>
                  <a:lnTo>
                    <a:pt x="288" y="960"/>
                  </a:lnTo>
                  <a:lnTo>
                    <a:pt x="288" y="0"/>
                  </a:lnTo>
                  <a:lnTo>
                    <a:pt x="528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988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80880" y="1143000"/>
            <a:ext cx="8229600" cy="2508120"/>
            <a:chOff x="380880" y="1143000"/>
            <a:chExt cx="8229600" cy="2508120"/>
          </a:xfrm>
        </p:grpSpPr>
        <p:sp>
          <p:nvSpPr>
            <p:cNvPr id="98" name=""/>
            <p:cNvSpPr/>
            <p:nvPr/>
          </p:nvSpPr>
          <p:spPr>
            <a:xfrm>
              <a:off x="380880" y="1212840"/>
              <a:ext cx="8229600" cy="2438280"/>
            </a:xfrm>
            <a:custGeom>
              <a:avLst/>
              <a:gdLst/>
              <a:ahLst/>
              <a:rect l="l" t="t" r="r" b="b"/>
              <a:pathLst>
                <a:path w="5424" h="1536">
                  <a:moveTo>
                    <a:pt x="5232" y="1488"/>
                  </a:moveTo>
                  <a:lnTo>
                    <a:pt x="5424" y="1488"/>
                  </a:lnTo>
                  <a:lnTo>
                    <a:pt x="5424" y="0"/>
                  </a:lnTo>
                  <a:lnTo>
                    <a:pt x="0" y="0"/>
                  </a:lnTo>
                  <a:lnTo>
                    <a:pt x="0" y="1536"/>
                  </a:lnTo>
                  <a:lnTo>
                    <a:pt x="192" y="153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72200" y="11430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stion de memoria IA-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66680" y="1092240"/>
            <a:ext cx="6934320" cy="56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tecciones de P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EXEC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Implementacion de paginas no ejecutables (depende de la arquitectura del siste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AGEEXE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NOEXEC basado en pag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EGMEXE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NOEXEC basado en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SL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Address Space Layout Rando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ANDUEXEC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Mapeo aleatorio de la pila de 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PROTE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Restricciones en mapeos 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NDEXE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leatorizacion de los ficheros no relocaliz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NDKEXE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Mapeo aleatorio de la pila del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33520" y="4876920"/>
            <a:ext cx="7696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1828800"/>
            <a:ext cx="7696080" cy="4495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4724280"/>
            <a:ext cx="1447920" cy="398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Es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7480" y="1600200"/>
            <a:ext cx="1143000" cy="398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8T08:07:58Z</dcterms:created>
  <dc:creator>Emilio Mira Alfaro</dc:creator>
  <dc:description/>
  <dc:language>en-US</dc:language>
  <cp:lastModifiedBy>Emilio Jose Mira Alfaro</cp:lastModifiedBy>
  <dcterms:modified xsi:type="dcterms:W3CDTF">2003-12-03T14:21:51Z</dcterms:modified>
  <cp:revision>10</cp:revision>
  <dc:subject/>
  <dc:title>Buffer overflows: PAX</dc:title>
</cp:coreProperties>
</file>