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6E7F-AD2A-4A07-AAD3-0815221D7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C150-2F28-4A01-96AB-7AD2364F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02BB-3B3A-41C8-B40E-FCE52557D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F7C2-B194-4DD1-8E51-EC3D53385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1695-E6D8-4489-9685-05D5D35D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D0ED-4923-4A77-8F02-9E81E560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0E88-917A-48AC-BB21-3593CAAA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5C40-DF18-4157-B70D-59889BAC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181F-7891-4A70-891A-D28327B0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1111-9C70-48B0-9393-1615E8F3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7BF2-B86D-42D2-93E9-61326CE3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B68A-C63E-4449-B496-DB517111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6DBB-A24C-4AB6-811E-A3E6C2E3A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yecto ELA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ulnerabilidad de format string en wu-ftpd 2.6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ilio Mi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de Agosto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shellcode lo podemos inyectar en el password si el servidor permite acceso anonimo. De esta forma nos podemos ahorrar la fase 2 si conocemos de antemano la direccion de la variable del pass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 pasar el valor 0xff al servidor, debemos escaparlo con otro 0x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 alguna de nuestras direcciones contiene el valor 0x0b, al ser este un retorno de carro, cortara la cadena que le pasemos al serv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oiting format string vulnerabilities”, TESO, 200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teso.scene.at/releases/formatstring-1.2.tar.g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 string vulnerability”, HERT, Kalou/Pascal Bouchareine,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hert.org/papers/format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 of format string bugs”, Andreas Thuemmel,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downloads.securityfocus.com/library/format-bug-analysis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u-ftpd 2.6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ulnerabilidad de format string en el comando SITE EX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te acceso de lectura/escrituar a cualquier posicion de memoria del proce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lizarmos esta vulnerabilidad para insertar un shellcode y ejecutar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u-ftpd 2.6.0 – SITE EXE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site_exec(char *cm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buf[MAXPATHLEN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 . 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sprintf(buf, "%s/%s", _PATH_EXECPATH, cmd); //vulner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 . 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reply(200, cm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(fgets(buf, sizeof buf, cmdf)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 . 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reply(200, buf);  //resultado del comando al usu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 . 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ply(200, " (end of '%s')", cm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ses del Explo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: Buscar el desplazamiento hasta la cadena de form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: Buscar la direccion de la c.f. en la pila (retadd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: Buscar la direccion del EIP de retorno (retlo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V: Inyectar el shellcode y modificar retloc para que apunte al shell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se I: Buscar desplazami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43600" y="2590920"/>
            <a:ext cx="2209680" cy="380880"/>
          </a:xfrm>
          <a:prstGeom prst="rect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mer para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1828800"/>
            <a:ext cx="2209680" cy="4495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4952880"/>
            <a:ext cx="2209680" cy="91440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  A  A 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 &lt;despl&gt; $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8458200" y="19051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0481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40320" y="60642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bfffff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40320" y="18288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bfff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9880" y="2467080"/>
            <a:ext cx="22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nto de partid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ara printf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3305160"/>
            <a:ext cx="5333760" cy="2715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 leer posiciones de memoria usarem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TE EXEC AAAA%&lt;despl&gt;$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 modificador de cadena de formato $ busca el parametro a imprimir en la posicion &lt;despl&gt; por debajo del punto de part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ando el valor leido sea 0x41414141 habremos llegado a la cadena de form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se II: Buscar retadd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5880" y="2590920"/>
            <a:ext cx="2210040" cy="380880"/>
          </a:xfrm>
          <a:prstGeom prst="rect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mer para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1828800"/>
            <a:ext cx="2210040" cy="4495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4876920"/>
            <a:ext cx="2210040" cy="106668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  A  A 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irecci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 &lt;despl&gt; $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92600" y="60642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bfffff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92600" y="17524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bfff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2133720"/>
            <a:ext cx="5562360" cy="38415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a leer posiciones de memoria usarem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TE EXEC AAAA&lt;direccion&gt;%&lt;despl+1&gt;$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spl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s el desplazamiento obtenido en la fase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e vez usaremo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%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orque de esta forma podremos obtener el contenido al que apunta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direccio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mentaremos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direccion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asta que encontremos de nuevo la c.f. (esta vez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AA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no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4141414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puesto que estamos imprimiendo una caden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jo con el alineamiento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05920" y="4952880"/>
            <a:ext cx="304560" cy="228600"/>
          </a:xfrm>
          <a:custGeom>
            <a:avLst/>
            <a:gdLst/>
            <a:ahLst/>
            <a:rect l="l" t="t" r="r" b="b"/>
            <a:pathLst>
              <a:path w="288" h="1824">
                <a:moveTo>
                  <a:pt x="0" y="1824"/>
                </a:moveTo>
                <a:lnTo>
                  <a:pt x="288" y="1824"/>
                </a:lnTo>
                <a:lnTo>
                  <a:pt x="288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6095880" y="2209680"/>
            <a:ext cx="2819520" cy="3429000"/>
            <a:chOff x="6095880" y="2209680"/>
            <a:chExt cx="2819520" cy="3429000"/>
          </a:xfrm>
        </p:grpSpPr>
        <p:sp>
          <p:nvSpPr>
            <p:cNvPr id="68" name=""/>
            <p:cNvSpPr/>
            <p:nvPr/>
          </p:nvSpPr>
          <p:spPr>
            <a:xfrm>
              <a:off x="8305920" y="2286000"/>
              <a:ext cx="609480" cy="3352680"/>
            </a:xfrm>
            <a:custGeom>
              <a:avLst/>
              <a:gdLst/>
              <a:ahLst/>
              <a:rect l="l" t="t" r="r" b="b"/>
              <a:pathLst>
                <a:path w="288" h="1824">
                  <a:moveTo>
                    <a:pt x="0" y="1824"/>
                  </a:moveTo>
                  <a:lnTo>
                    <a:pt x="288" y="1824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5880" y="2209680"/>
              <a:ext cx="2210040" cy="38124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6095880" y="3200400"/>
            <a:ext cx="2667240" cy="2209680"/>
            <a:chOff x="6095880" y="3200400"/>
            <a:chExt cx="2667240" cy="2209680"/>
          </a:xfrm>
        </p:grpSpPr>
        <p:sp>
          <p:nvSpPr>
            <p:cNvPr id="71" name=""/>
            <p:cNvSpPr/>
            <p:nvPr/>
          </p:nvSpPr>
          <p:spPr>
            <a:xfrm>
              <a:off x="8305920" y="3429000"/>
              <a:ext cx="457200" cy="1981080"/>
            </a:xfrm>
            <a:custGeom>
              <a:avLst/>
              <a:gdLst/>
              <a:ahLst/>
              <a:rect l="l" t="t" r="r" b="b"/>
              <a:pathLst>
                <a:path w="288" h="1824">
                  <a:moveTo>
                    <a:pt x="0" y="1824"/>
                  </a:moveTo>
                  <a:lnTo>
                    <a:pt x="288" y="1824"/>
                  </a:lnTo>
                  <a:lnTo>
                    <a:pt x="288" y="0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095880" y="3200400"/>
              <a:ext cx="2210040" cy="3808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se III: Buscar retlo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2590920"/>
            <a:ext cx="2210040" cy="380880"/>
          </a:xfrm>
          <a:prstGeom prst="rect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mer para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5880" y="1828800"/>
            <a:ext cx="2210040" cy="4495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5880" y="5105520"/>
            <a:ext cx="2210040" cy="83808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irecci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 &lt;despl&gt; $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92600" y="60642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bfffff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92600" y="17524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bfff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2098800"/>
            <a:ext cx="5562360" cy="4268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a leer posiciones de memoria usarem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TE EXEC &lt;direccion&gt;%&lt;despl&gt;$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spl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s el desplazamiento obtenido en la fase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ando obtengamos valores consecutivos de la form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bfffX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x08XX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abremos obtenido un posible registro de retorno. La segunda direccion sera la candidata para nuestro retl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a: el primero posible registro de retorno no suele ser el valido. Si lanzamos el exploit con un retloc invalido, el exploit no tiene exi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ucion: en todas las pruebas que he hecho con distintas versiones, el retloc es el cuarto registro de retor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8610480" y="198108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se IV: Inyeccion del shellcode y modificacion de retlo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5880" y="2590920"/>
            <a:ext cx="2210040" cy="380880"/>
          </a:xfrm>
          <a:prstGeom prst="rect">
            <a:avLst/>
          </a:prstGeom>
          <a:solidFill>
            <a:srgbClr val="b2b2b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mer para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5880" y="1828800"/>
            <a:ext cx="2210040" cy="4495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5880" y="4419720"/>
            <a:ext cx="2210040" cy="1523880"/>
          </a:xfrm>
          <a:prstGeom prst="rect">
            <a:avLst/>
          </a:prstGeom>
          <a:solidFill>
            <a:srgbClr val="cc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etloc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 &lt;despl&gt; $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92600" y="60642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bfffff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92600" y="175248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0xbfff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128680"/>
            <a:ext cx="5562360" cy="3809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yeccion y modificacion de retloc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TE EXEC AAAA&lt;retloc&gt;AAAA&lt;retloc+2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%&lt;despl&gt;$&lt;pad0&gt;d%&lt;despl+1&gt;$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%&lt;despl+2&gt;$&lt;pad1&gt;d%&lt;despl+3&gt;$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shellcod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spl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s el desplazamiento obtenido en la fase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critura en dos fases con %hn (escritura en short), soportada en la libreria GNU. Asi seguimos teniendo acceso a retlocs con 0x0d dentro de su direcc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 valor escrito en retloc sera la direccion de nuestra c.f. obtenida en la fase 2 + el deplazamiento hasta llegar al shellco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8610480" y="198108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jemplo (ftp_exp3.c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exploit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93396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9T16:56:29Z</dcterms:created>
  <dc:creator>Emilio Jose Mira Alfaro</dc:creator>
  <dc:description/>
  <dc:language>en-US</dc:language>
  <cp:lastModifiedBy>Emilio Jose Mira Alfaro</cp:lastModifiedBy>
  <dcterms:modified xsi:type="dcterms:W3CDTF">2003-08-09T19:49:55Z</dcterms:modified>
  <cp:revision>22</cp:revision>
  <dc:subject/>
  <dc:title>Proyecto ELAS Vulnerabilidad de format string en wu-ftpd 2.6.0</dc:title>
</cp:coreProperties>
</file>