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4A3-A54A-414C-89E4-CDDFC9A3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33F-A676-4699-A335-5868606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E29-D2BD-47E7-AE80-A71DC35A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FB5-DA5D-49FE-BFE7-BF4A46C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5E9-860E-4992-8779-24DDF2FD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B24-CA88-4A1D-A610-3D22D51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6B9-D6EC-43C9-A34B-6110698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965-FE99-4179-9768-3D09A602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6C4-5AE3-443E-AF67-5CCCCC7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E83-8BB4-4C63-AB98-B89A6BB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049-949A-426E-985E-9EED6FC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482-66A6-4990-8F16-AEF17E66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56E-39E6-4E00-8421-5CAF6827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yecto EL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nerabilidad de format string en 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de Agosto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hellcode lo podemos inyectar en el password si el servidor permite acceso anonimo. De esta forma nos podemos ahorrar la fase 2 si conocemos de antemano la direccion de la variable del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asar el valor 0xff al servidor, debemos escaparlo con otro 0x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una de nuestras direcciones contiene el valor 0x0b, al ser este un retorno de carro, cortara la cadena que le pasemos al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ing format string vulnerabilities”, TESO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so.scene.at/releases/formatstring-1.2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string vulnerability”, HERT, Kalou/Pascal Bouchareine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ert.org/papers/forma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format string bugs”, Andreas Thuemmel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ownloads.securityfocus.com/library/format-bug-analysis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dad de format string en el comando SITE EX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acceso de lectura/escrituar a cualquier posicion de memoria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mos esta vulnerabilidad para insertar un shellcode y ejecut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 – SITE 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ite_exec(char *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PATHLE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sprintf(buf, "%s/%s", _PATH_EXECPATH, cmd); //vulne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reply(200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sizeof buf, cmdf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reply(200, buf);  //resultado del comando al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ly(200, " (end of '%s')"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s del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: Buscar el desplazamiento hasta la cadena de 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: Buscar la direccion de la c.f. en la pila (retadd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: Buscar la direccion del EIP de retorno (ret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: Inyectar el shellcode y modificar retloc para que apunte al shell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: Buscar desplaz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590920"/>
            <a:ext cx="220968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28800"/>
            <a:ext cx="220968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952880"/>
            <a:ext cx="2209680" cy="9144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458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4032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40320" y="1828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67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nto de parti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a print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305160"/>
            <a:ext cx="5333760" cy="271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%&lt;despl&gt;$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odificador de cadena de formato $ busca el parametro a imprimir en la posicion &lt;despl&gt; por debajo del punto de par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ando el valor leido sea 0x41414141 habremos llegado a la cadena de form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: Buscar retadd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876920"/>
            <a:ext cx="2210040" cy="10666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133720"/>
            <a:ext cx="5562360" cy="38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direccion&gt;%&lt;despl+1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e vez usaremo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rque de esta forma podremos obtener el contenido al que apunt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mentarem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ta que encontremos de nuevo la c.f. (esta ve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A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4141414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esto que estamos imprimiendo una cade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jo con el alineamien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4952880"/>
            <a:ext cx="304560" cy="228600"/>
          </a:xfrm>
          <a:custGeom>
            <a:avLst/>
            <a:gdLst/>
            <a:ahLst/>
            <a:rect l="l" t="t" r="r" b="b"/>
            <a:pathLst>
              <a:path w="288" h="1824">
                <a:moveTo>
                  <a:pt x="0" y="1824"/>
                </a:moveTo>
                <a:lnTo>
                  <a:pt x="288" y="1824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095880" y="2209680"/>
            <a:ext cx="2819520" cy="3429000"/>
            <a:chOff x="6095880" y="2209680"/>
            <a:chExt cx="2819520" cy="3429000"/>
          </a:xfrm>
        </p:grpSpPr>
        <p:sp>
          <p:nvSpPr>
            <p:cNvPr id="68" name=""/>
            <p:cNvSpPr/>
            <p:nvPr/>
          </p:nvSpPr>
          <p:spPr>
            <a:xfrm>
              <a:off x="8305920" y="2286000"/>
              <a:ext cx="609480" cy="33526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5880" y="2209680"/>
              <a:ext cx="2210040" cy="38124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95880" y="3200400"/>
            <a:ext cx="2667240" cy="2209680"/>
            <a:chOff x="6095880" y="3200400"/>
            <a:chExt cx="2667240" cy="2209680"/>
          </a:xfrm>
        </p:grpSpPr>
        <p:sp>
          <p:nvSpPr>
            <p:cNvPr id="71" name=""/>
            <p:cNvSpPr/>
            <p:nvPr/>
          </p:nvSpPr>
          <p:spPr>
            <a:xfrm>
              <a:off x="8305920" y="3429000"/>
              <a:ext cx="457200" cy="19810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5880" y="3200400"/>
              <a:ext cx="2210040" cy="3808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I: Buscar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5105520"/>
            <a:ext cx="2210040" cy="838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098800"/>
            <a:ext cx="5562360" cy="426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&lt;direccion&gt;%&lt;despl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 obtengamos valores consecutivos de la form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bfff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X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bremos obtenido un posible registro de retorno. La segunda direccion sera la candidata para nuestro ret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: el primero posible registro de retorno no suele ser el valido. Si lanzamos el exploit con un retloc invalido, el exploit no tiene ex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cion: en todas las pruebas que he hecho con distintas versiones, el retloc es el cuarto registro de reto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V: Inyeccion del shellcode y modificacion de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419720"/>
            <a:ext cx="221004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etloc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128680"/>
            <a:ext cx="5562360" cy="380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yeccion y modificacion de retlo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retloc&gt;AAAA&lt;retloc+2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&gt;$&lt;pad0&gt;d%&lt;despl+1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+2&gt;$&lt;pad1&gt;d%&lt;despl+3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hell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ritura en dos fases con %hn (escritura en short), soportada en la libreria GNU. Asi seguimos teniendo acceso a retlocs con 0x0d dentro de su direc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valor escrito en retloc sera la direccion de nuestra c.f. obtenida en la fase 2 + el deplazamiento hasta llegar al shell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 (ftp_exp3.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xploi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33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9T16:56:29Z</dcterms:created>
  <dc:creator>Emilio Jose Mira Alfaro</dc:creator>
  <dc:description/>
  <dc:language>en-US</dc:language>
  <cp:lastModifiedBy>Emilio Jose Mira Alfaro</cp:lastModifiedBy>
  <dcterms:modified xsi:type="dcterms:W3CDTF">2003-08-09T19:49:55Z</dcterms:modified>
  <cp:revision>22</cp:revision>
  <dc:subject/>
  <dc:title>Proyecto ELAS Vulnerabilidad de format string en wu-ftpd 2.6.0</dc:title>
</cp:coreProperties>
</file>